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294-19AB-48C9-A5DA-5C73D6A3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A0C-CD15-4E43-8537-03CFB482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482-9B5E-4C46-9269-91AAE0F3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D19-BD2B-45A6-8E05-6B4FEA38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473-5F84-4C95-B31C-1DC92553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72C-D882-4F29-906C-954A2F90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C27-1912-4457-9099-5B735E79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EFF-475D-47CE-906E-E13EBC24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52D-0FBA-4FB5-A45A-075468F5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159-2E02-4A15-84A6-FC4F0343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329-C27D-413D-87F9-B1DD9544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4DA-3455-4A67-98DC-84F1E22E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F761-7779-4E8F-A3B8-F8C455B08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мпьютерная графика. Создание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делей в графическом редакторе»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ктионов Костя 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КУ Таскинская О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544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643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писок литерату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43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И. Мураховский «Компьютерная графика», Москва, издательство «АСТ-ПРЕСС», 2002 год, стр. 16-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лий Леонтьев «Новейшая энциклопедия персонального компьютера 2005», Москва, издательство «Олма-пресс», 2005 год, стр. 462-4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Г. Гейн, А.И. Сенокосов, Н.А. Юнерман «Информатика 10-11 кл.», Москва, издательство «Просвещение», 2001 год, стр. 48-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В. Симонович, Г.А. Евсеев «Занимательный компьютер», Москва, издательство «АСТ-ПРЕСС», 2003 год, стр. 26-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мпьютер для детей», Москва, издательство «АСТ-ПРЕСС», 2000 год, стр. 1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Фролов «Энциклопед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003», Москва, ЗАО «Новый издательский дом», 200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арова «Информатика», Москва, издательство «Финансы и статистика»,  200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 Могилев, Н.И. Пак, Е.К. Хеннер «Информатика», Москва, издательств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 2003 год, стр. 167-1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А. Хлебанина энциклопедия для детей, том 22 «Информатика», Москва, издательство «Аванта», 2003 год, стр. 298-3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Д. Угринович «Информатика и информационные технологии 10-11 классы», Москва, издательство «Бином», 2003 год, стр. 304-3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значимость, как можно глубже изучить и обобщить знания по теме «Компьютерная графика. Создание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ей в графическом редакто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Изучение литературы по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овести ис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одготовить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 обычном графическом редакторе создать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л ис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ёл информацию в интернете о том что такое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дробнее изучил компьютерную граф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пытался создать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 в обычном графическом редактор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3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5T00:59:52Z</dcterms:created>
  <dc:creator>Пользователь</dc:creator>
  <dc:description/>
  <dc:language>en-US</dc:language>
  <cp:lastModifiedBy>Пользователь</cp:lastModifiedBy>
  <dcterms:modified xsi:type="dcterms:W3CDTF">2019-04-16T02:54:22Z</dcterms:modified>
  <cp:revision>6</cp:revision>
  <dc:subject/>
  <dc:title>«Компьютерная графика. Создание 3D моделей в графическом редакторе». </dc:title>
</cp:coreProperties>
</file>