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5768-630E-4E08-9C12-77D63339B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4D97-BA77-4650-86D4-E89C7AE7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8233-6AB0-4225-ABFE-5DC593BC1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1B3B-3255-48BF-96DA-BF808B0B7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6615-8EB7-48D6-AAF3-02F64FAA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669D-AC9C-47CF-A8CD-7D7276A5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290E-54BA-45A1-BBCC-AD721457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C863-A024-43A7-8AF6-98FE6CA9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E573-E96F-4B85-A0A9-54817769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8F9E-4F6C-462C-9D3F-050D1A01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4B7D-D22C-4A3F-97C8-ADAC329F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C3E1-C397-465C-A0BE-E198E993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0DC0-D229-4691-BDA6-95BCCA494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Компьютерная графика. Создание 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оделей в графическом редакторе».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актионов Костя 7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КУ Таскинская ОО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равнение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t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t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7" descr=""/>
          <p:cNvPicPr/>
          <p:nvPr/>
        </p:nvPicPr>
        <p:blipFill>
          <a:blip r:embed="rId1"/>
          <a:stretch/>
        </p:blipFill>
        <p:spPr>
          <a:xfrm>
            <a:off x="0" y="1413000"/>
            <a:ext cx="4500720" cy="5445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00720" y="1413000"/>
            <a:ext cx="464328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Список литератур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2434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И. Мураховский «Компьютерная графика», Москва, издательство «АСТ-ПРЕСС», 2002 год, стр. 16-2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талий Леонтьев «Новейшая энциклопедия персонального компьютера 2005», Москва, издательство «Олма-пресс», 2005 год, стр. 462-46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Г. Гейн, А.И. Сенокосов, Н.А. Юнерман «Информатика 10-11 кл.», Москва, издательство «Просвещение», 2001 год, стр. 48-5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В. Симонович, Г.А. Евсеев «Занимательный компьютер», Москва, издательство «АСТ-ПРЕСС», 2003 год, стр. 26-2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омпьютер для детей», Москва, издательство «АСТ-ПРЕСС», 2000 год, стр. 12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. Фролов «Энциклопед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soft Offic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2003», Москва, ЗАО «Новый издательский дом», 2004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арова «Информатика», Москва, издательство «Финансы и статистика»,  2004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В. Могилев, Н.И. Пак, Е.К. Хеннер «Информатика», Москва, издательство 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ADEM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, 2003 год, стр. 167-18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.А. Хлебанина энциклопедия для детей, том 22 «Информатика», Москва, издательство «Аванта», 2003 год, стр. 298-3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.Д. Угринович «Информатика и информационные технологии 10-11 классы», Москва, издательство «Бином», 2003 год, стр. 304-31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ь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вить значимость, как можно глубже изучить и обобщить знания по теме «Компьютерная графика. Создание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оделей в графическом редактор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тоды исследования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Изучение литературы по данной т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Провести исслед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Подготовить презента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ипот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но ли в обычном графическом редакторе создать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одел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вел исслед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шёл информацию в интернете о том что такое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одел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одробнее изучил компьютерную графи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Попытался создать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одель в обычном графическом редактор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t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t 3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t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4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t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7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5T00:59:52Z</dcterms:created>
  <dc:creator>Пользователь</dc:creator>
  <dc:description/>
  <dc:language>en-US</dc:language>
  <cp:lastModifiedBy>Пользователь</cp:lastModifiedBy>
  <dcterms:modified xsi:type="dcterms:W3CDTF">2019-04-16T02:54:22Z</dcterms:modified>
  <cp:revision>6</cp:revision>
  <dc:subject/>
  <dc:title>«Компьютерная графика. Создание 3D моделей в графическом редакторе». </dc:title>
</cp:coreProperties>
</file>