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133-CA33-470B-8230-D9C6F1BC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69B-ECC4-4B14-A9C7-6403FA56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932-F3CF-45FB-A272-2B48620F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702-E069-4A7A-BBE8-02A29DFA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460-E186-47E2-8757-7AFB9F91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431-80F6-4744-83AC-750081B5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3CF-0F89-432A-B205-384EA42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8DB-AE5A-4964-8C6F-098C2690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6F2-3469-4310-96E5-55763860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E63-9FDA-47CF-A95D-BBD3B0BE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9C6-C46F-4D74-8676-C6160CE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2B9C-BB1A-46A3-ACDC-A2DBF2D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6F02-C218-43BD-9EEE-0EEBDC9BB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Компьютерная графика. Создание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делей в графическом редакторе».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актионов Костя 7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КУ Таскинская ОО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7" descr=""/>
          <p:cNvPicPr/>
          <p:nvPr/>
        </p:nvPicPr>
        <p:blipFill>
          <a:blip r:embed="rId1"/>
          <a:stretch/>
        </p:blipFill>
        <p:spPr>
          <a:xfrm>
            <a:off x="0" y="1413000"/>
            <a:ext cx="4500720" cy="5445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6432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Список литерату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243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Мураховский «Компьютерная графика», Москва, издательство «АСТ-ПРЕСС», 2002 год, стр. 16-2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ий Леонтьев «Новейшая энциклопедия персонального компьютера 2005», Москва, издательство «Олма-пресс», 2005 год, стр. 462-46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Г. Гейн, А.И. Сенокосов, Н.А. Юнерман «Информатика 10-11 кл.», Москва, издательство «Просвещение», 2001 год, стр. 48-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В. Симонович, Г.А. Евсеев «Занимательный компьютер», Москва, издательство «АСТ-ПРЕСС», 2003 год, стр. 26-2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мпьютер для детей», Москва, издательство «АСТ-ПРЕСС», 2000 год, стр. 12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. Фролов «Энциклопед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ffi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003», Москва, ЗАО «Новый издательский дом»,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арова «Информатика», Москва, издательство «Финансы и статистика»,  2004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 Могилев, Н.И. Пак, Е.К. Хеннер «Информатика», Москва, издательств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, 2003 год, стр. 167-1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А. Хлебанина энциклопедия для детей, том 22 «Информатика», Москва, издательство «Аванта», 2003 год, стр. 298-3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Д. Угринович «Информатика и информационные технологии 10-11 классы», Москва, издательство «Бином», 2003 год, стр. 304-3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1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значимость, как можно глубже изучить и обобщить знания по теме «Компьютерная графика. Создани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ей в графическом редакто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зучение литературы по данной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вести исслед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Подготовить презент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 обычном графическом редакторе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л иссле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ёл информацию в интернете о том что такое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дробнее изучил компьютерную граф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пытался создать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ель в обычном графическом редактор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 3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nt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7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5T00:59:52Z</dcterms:created>
  <dc:creator>Пользователь</dc:creator>
  <dc:description/>
  <dc:language>en-US</dc:language>
  <cp:lastModifiedBy>Пользователь</cp:lastModifiedBy>
  <dcterms:modified xsi:type="dcterms:W3CDTF">2019-04-16T02:54:22Z</dcterms:modified>
  <cp:revision>6</cp:revision>
  <dc:subject/>
  <dc:title>«Компьютерная графика. Создание 3D моделей в графическом редакторе». </dc:title>
</cp:coreProperties>
</file>