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2F6-8DBD-499A-A8DA-1455F5F7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318-9BB3-4DB0-B551-D7656D2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D6E-EFD9-4186-9AA4-8512EFF5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B67-0024-467C-82A2-EBB26FD0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605-6887-4907-9C61-E9F83176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11A-D846-4140-874A-337F86C7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41F-6A45-46A0-B1F4-26FD806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7B7-F3CD-48CD-B876-E377A598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BA7-844B-44E2-84D8-D97ECE10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7F5-6B5F-43ED-989F-D5AB861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D73-FC9E-4D42-A6DC-E4ECC30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CD3-04F7-4A25-BEF5-3621DF8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EA89-3C7A-475A-8C44-2E1043904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8062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РЕД КУР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еница 5 класс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КУ Таскинской ООШ Виселкова А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юди начинают кур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вни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им причинам курят подростки (юноши и девушк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охая компан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отят выглядеть взросле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есно, быть крут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курю, то вредно ли это окружающ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 вре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росить кур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ратиться к специали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ужна сила в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пить таб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big.gif"/>
          <p:cNvPicPr/>
          <p:nvPr/>
        </p:nvPicPr>
        <p:blipFill>
          <a:blip r:embed="rId1"/>
          <a:stretch/>
        </p:blipFill>
        <p:spPr>
          <a:xfrm>
            <a:off x="6084720" y="458136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Пользователь</cp:lastModifiedBy>
  <dcterms:modified xsi:type="dcterms:W3CDTF">2019-05-13T00:53:45Z</dcterms:modified>
  <cp:revision>10</cp:revision>
  <dc:subject/>
  <dc:title>Слайд 1</dc:title>
</cp:coreProperties>
</file>