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766-C0AB-45F6-A125-74EFDCAD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894-B96A-4E07-BA42-279E3423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BF3-FBEE-4F6F-A1CB-C9B5963F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31E-619F-4E8D-99E4-24D96FB6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362-01AA-4D82-8076-7C885E0A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026-AFDD-476E-A4F5-59E72243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FF49-AC5C-4C0B-9F03-695FD71E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591-EFE3-4471-8014-126537FE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317-F62D-40CD-8F72-A200ABD5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D1E-8554-469F-AAA6-DAB0E300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E5D-FBE9-4710-95D3-5398FD4A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787-59F5-4624-83A5-B2A0058B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0FF6-15BD-4354-8AC8-7E8B727CD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5505480" cy="560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10560" y="380880"/>
            <a:ext cx="646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420440" y="3203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8138880" y="-33480"/>
            <a:ext cx="511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Скругленный прямоугольник 4"/>
          <p:cNvSpPr/>
          <p:nvPr/>
        </p:nvSpPr>
        <p:spPr>
          <a:xfrm>
            <a:off x="1066680" y="5562720"/>
            <a:ext cx="769644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ложение 1 стр. 265 – 26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365040" y="878040"/>
            <a:ext cx="8645760" cy="5236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38680" y="2286000"/>
            <a:ext cx="931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есть несколько стран,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х расположены на двух матери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и страны, которые лежат в двух част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а. Найдите и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, занимающую целый мате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страну, занимающую больш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крупнейшего архипел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-19080" y="255600"/>
            <a:ext cx="9182160" cy="6316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380880" y="9907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ой океан занимает 75% площади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– это огромные участки суши, со всех сторон или почти со всех окруженные водой. На Земле 6 матер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или их части вместе с близко расположенными к ним островами образуют части света. Частей света , как и материков, - 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кеанах Земли находятся десятки тысяч островов. По происхождению выделяют материковые, вулканические и коралловые ост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2"/>
          <p:cNvSpPr/>
          <p:nvPr/>
        </p:nvSpPr>
        <p:spPr>
          <a:xfrm>
            <a:off x="609480" y="990720"/>
            <a:ext cx="7925040" cy="4572000"/>
          </a:xfrm>
          <a:prstGeom prst="roundRect">
            <a:avLst>
              <a:gd name="adj" fmla="val 16667"/>
            </a:avLst>
          </a:prstGeom>
          <a:solidFill>
            <a:srgbClr val="00ffff">
              <a:alpha val="4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632760" y="3048120"/>
            <a:ext cx="18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3200400" y="27907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7907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5" descr="Закат"/>
          <p:cNvPicPr/>
          <p:nvPr/>
        </p:nvPicPr>
        <p:blipFill>
          <a:blip r:embed="rId3"/>
          <a:stretch/>
        </p:blipFill>
        <p:spPr>
          <a:xfrm>
            <a:off x="-4572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791320" y="3733920"/>
            <a:ext cx="131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.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60" y="152280"/>
            <a:ext cx="90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ерхность земного шара  - 510 млн.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-533520" y="380880"/>
          <a:ext cx="6096240" cy="40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533520" y="3808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14400" y="1176480"/>
            <a:ext cx="7620120" cy="568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60440" y="228600"/>
            <a:ext cx="81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крупнейшие массивы суши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енные со всех сторон океанами и мор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126240" y="0"/>
            <a:ext cx="24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0666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107680" y="114300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30040" y="17524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107680" y="175248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,3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13480" y="2328840"/>
            <a:ext cx="43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вер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183640" y="2362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4,2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90520" y="3014640"/>
            <a:ext cx="37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ж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167800" y="2938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7,8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66840" y="37004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320440" y="362412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07080" y="426708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и Оке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2670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473080" y="423396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58040" y="0"/>
            <a:ext cx="883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сторически сложившиеся наз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ческих объектов. Включают матери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щиеся к ним остр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052800" y="1792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00360" y="133812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718440" y="126216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Эреб» - зак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00360" y="19479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з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795480" y="17953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Асу» - восх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900000" y="248112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99640" y="301464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0240" y="358128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900000" y="41576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947760" y="354816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Южн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024440" y="4081320"/>
            <a:ext cx="48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ротивомедвежь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871080" y="2405160"/>
            <a:ext cx="47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енная», «жарк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"/>
          <p:cNvPicPr/>
          <p:nvPr/>
        </p:nvPicPr>
        <p:blipFill>
          <a:blip r:embed="rId1"/>
          <a:stretch/>
        </p:blipFill>
        <p:spPr>
          <a:xfrm>
            <a:off x="3048120" y="4952880"/>
            <a:ext cx="28191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55680" y="1752480"/>
            <a:ext cx="100080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957920" y="1676520"/>
            <a:ext cx="1486800" cy="337320"/>
          </a:xfrm>
          <a:prstGeom prst="rect">
            <a:avLst/>
          </a:prstGeom>
          <a:solidFill>
            <a:srgbClr val="99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286000" y="3124080"/>
            <a:ext cx="2438280" cy="1905120"/>
          </a:xfrm>
          <a:prstGeom prst="wedgeRectCallout">
            <a:avLst>
              <a:gd name="adj1" fmla="val 3449"/>
              <a:gd name="adj2" fmla="val -114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ов – это часть су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енная со всех сторон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952880" y="4191120"/>
            <a:ext cx="2133720" cy="1447560"/>
          </a:xfrm>
          <a:prstGeom prst="wedgeRectCallout">
            <a:avLst>
              <a:gd name="adj1" fmla="val -20111"/>
              <a:gd name="adj2" fmla="val -180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остров – это часть су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енная с 3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7162920" y="3505320"/>
            <a:ext cx="1981080" cy="1904760"/>
          </a:xfrm>
          <a:prstGeom prst="wedgeRectCallout">
            <a:avLst>
              <a:gd name="adj1" fmla="val -57851"/>
              <a:gd name="adj2" fmla="val -107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ипелаг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группа остров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щиеся  близко друг от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223720" y="54100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Грен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.   Мадагаск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812840" y="58672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-в Камча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авий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979320" y="594360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лайский а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629400" y="21337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хипел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0" y="3505320"/>
            <a:ext cx="2133720" cy="2209680"/>
          </a:xfrm>
          <a:prstGeom prst="wedgeRectCallout">
            <a:avLst>
              <a:gd name="adj1" fmla="val -7217"/>
              <a:gd name="adj2" fmla="val -11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к-это огромный участок суши в Миров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1752480"/>
            <a:ext cx="1981440" cy="304920"/>
          </a:xfrm>
          <a:prstGeom prst="rect">
            <a:avLst/>
          </a:prstGeom>
          <a:solidFill>
            <a:srgbClr val="e45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р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75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25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925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21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71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371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2437920"/>
            <a:ext cx="4343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а, архипелаги и полу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52600[1]"/>
          <p:cNvPicPr/>
          <p:nvPr/>
        </p:nvPicPr>
        <p:blipFill>
          <a:blip r:embed="rId2"/>
          <a:stretch/>
        </p:blipFill>
        <p:spPr>
          <a:xfrm>
            <a:off x="228600" y="914400"/>
            <a:ext cx="2162160" cy="141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3601[1]"/>
          <p:cNvPicPr/>
          <p:nvPr/>
        </p:nvPicPr>
        <p:blipFill>
          <a:blip r:embed="rId3"/>
          <a:stretch/>
        </p:blipFill>
        <p:spPr>
          <a:xfrm>
            <a:off x="5943600" y="762120"/>
            <a:ext cx="290196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rcRect l="11903" t="8975" r="9524" b="18551"/>
          <a:stretch/>
        </p:blipFill>
        <p:spPr>
          <a:xfrm>
            <a:off x="0" y="2895480"/>
            <a:ext cx="5029200" cy="4038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2578320" y="539424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Мадагаск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09640" y="400680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Шри-Л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223280" y="36576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Сом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20080" y="3124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Индо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5105520" y="2971800"/>
            <a:ext cx="4038480" cy="5335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 по происхожд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5105520" y="3733920"/>
            <a:ext cx="1904760" cy="1143000"/>
          </a:xfrm>
          <a:prstGeom prst="wedgeRoundRectCallout">
            <a:avLst>
              <a:gd name="adj1" fmla="val 2773"/>
              <a:gd name="adj2" fmla="val -74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улкани-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6095880" y="5486400"/>
            <a:ext cx="1828800" cy="990720"/>
          </a:xfrm>
          <a:prstGeom prst="wedgeRoundRectCallout">
            <a:avLst>
              <a:gd name="adj1" fmla="val 2671"/>
              <a:gd name="adj2" fmla="val -2510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-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7238880" y="3733920"/>
            <a:ext cx="1905120" cy="1143000"/>
          </a:xfrm>
          <a:prstGeom prst="wedgeRoundRectCallout">
            <a:avLst>
              <a:gd name="adj1" fmla="val 26138"/>
              <a:gd name="adj2" fmla="val -831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ал-л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ка-9</dc:creator>
  <dc:description/>
  <dc:language>en-US</dc:language>
  <cp:lastModifiedBy>Admin</cp:lastModifiedBy>
  <dcterms:modified xsi:type="dcterms:W3CDTF">2012-09-09T12:35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