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B701-70CF-42D6-B820-CBF13E83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0D2-52D7-48E1-AF80-83FDBAC9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D60-6F97-42B4-B359-137F1BF3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E36-823C-4358-8120-B28361F6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710-6A2C-41AC-AC1B-DBFC2BC4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A50-A711-4B55-822D-84FB4998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B7E-FDF9-4FA8-B4EA-688734EB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536-2E3C-4622-A798-FD814471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C7C-AA85-4A31-8F00-8277D1E9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7AE-9A0F-4405-9EFC-CED95A67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9E6F-CAFA-4A1D-A89D-8DE724CB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DB62-6B2D-4754-93A6-EA45BB03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0CA4-E4D6-4600-B30F-931EEEC958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752480" y="457200"/>
            <a:ext cx="5505480" cy="5600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10560" y="380880"/>
            <a:ext cx="646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420440" y="3203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8138880" y="-33480"/>
            <a:ext cx="511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Скругленный прямоугольник 4"/>
          <p:cNvSpPr/>
          <p:nvPr/>
        </p:nvSpPr>
        <p:spPr>
          <a:xfrm>
            <a:off x="1066680" y="5562720"/>
            <a:ext cx="769644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ложение 1 стр. 265 – 26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365040" y="878040"/>
            <a:ext cx="8645760" cy="52369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38680" y="2286000"/>
            <a:ext cx="931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Земле есть несколько стран, терри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ых расположены на двух матери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и страны, которые лежат в двух част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а. Найдите и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, занимающую целый матер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страну, занимающую больш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ь крупнейшего архипела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-19080" y="255600"/>
            <a:ext cx="9182160" cy="6316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380880" y="990720"/>
            <a:ext cx="8610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овой океан занимает 75% площади ш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– это огромные участки суши, со всех сторон или почти со всех окруженные водой. На Земле 6 матер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или их части вместе с близко расположенными к ним островами образуют части света. Частей света , как и материков, - 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кеанах Земли находятся десятки тысяч островов. По происхождению выделяют материковые, вулканические и коралловые ост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2"/>
          <p:cNvSpPr/>
          <p:nvPr/>
        </p:nvSpPr>
        <p:spPr>
          <a:xfrm>
            <a:off x="609480" y="990720"/>
            <a:ext cx="7925040" cy="4572000"/>
          </a:xfrm>
          <a:prstGeom prst="roundRect">
            <a:avLst>
              <a:gd name="adj" fmla="val 16667"/>
            </a:avLst>
          </a:prstGeom>
          <a:solidFill>
            <a:srgbClr val="00ffff">
              <a:alpha val="4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3632760" y="3048120"/>
            <a:ext cx="187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 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3200400" y="279072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7907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Picture 5" descr="Закат"/>
          <p:cNvPicPr/>
          <p:nvPr/>
        </p:nvPicPr>
        <p:blipFill>
          <a:blip r:embed="rId3"/>
          <a:stretch/>
        </p:blipFill>
        <p:spPr>
          <a:xfrm>
            <a:off x="-45720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5791320" y="3733920"/>
            <a:ext cx="131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.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60" y="152280"/>
            <a:ext cx="90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ерхность земного шара  - 510 млн.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-533520" y="380880"/>
          <a:ext cx="6096240" cy="406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533520" y="38088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14400" y="1176480"/>
            <a:ext cx="7620120" cy="5681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60440" y="228600"/>
            <a:ext cx="818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крупнейшие массивы суши Зем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енные со всех сторон океанами и мор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126240" y="0"/>
            <a:ext cx="24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06668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107680" y="114300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30040" y="175248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107680" y="175248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,3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13480" y="2328840"/>
            <a:ext cx="43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вер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183640" y="2362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4,2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290520" y="3014640"/>
            <a:ext cx="37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ж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167800" y="2938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7,8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66840" y="37004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320440" y="362412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07080" y="4267080"/>
            <a:ext cx="48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и Оке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5638680" y="42670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473080" y="4233960"/>
            <a:ext cx="23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67480" cy="5562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58040" y="0"/>
            <a:ext cx="883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сторически сложившиеся наз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ческих объектов. Включают материк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щиеся к ним остр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052800" y="1792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900360" y="133812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718440" y="1262160"/>
            <a:ext cx="36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Эреб» - зака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900360" y="19479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з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795480" y="179532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Асу» - восх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900000" y="248112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99640" y="301464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840240" y="3581280"/>
            <a:ext cx="25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900000" y="41576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947760" y="354816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Южн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024440" y="4081320"/>
            <a:ext cx="48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ротивомедвежь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3871080" y="2405160"/>
            <a:ext cx="47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енная», «жарк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"/>
          <p:cNvPicPr/>
          <p:nvPr/>
        </p:nvPicPr>
        <p:blipFill>
          <a:blip r:embed="rId1"/>
          <a:stretch/>
        </p:blipFill>
        <p:spPr>
          <a:xfrm>
            <a:off x="3048120" y="4952880"/>
            <a:ext cx="28191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55680" y="1752480"/>
            <a:ext cx="100080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957920" y="1676520"/>
            <a:ext cx="1486800" cy="337320"/>
          </a:xfrm>
          <a:prstGeom prst="rect">
            <a:avLst/>
          </a:prstGeom>
          <a:solidFill>
            <a:srgbClr val="99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2286000" y="3124080"/>
            <a:ext cx="2438280" cy="1905120"/>
          </a:xfrm>
          <a:prstGeom prst="wedgeRectCallout">
            <a:avLst>
              <a:gd name="adj1" fmla="val 3449"/>
              <a:gd name="adj2" fmla="val -114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ров – это часть суш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руженная со всех сторон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4952880" y="4191120"/>
            <a:ext cx="2133720" cy="1447560"/>
          </a:xfrm>
          <a:prstGeom prst="wedgeRectCallout">
            <a:avLst>
              <a:gd name="adj1" fmla="val -20111"/>
              <a:gd name="adj2" fmla="val -180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остров – это часть су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енная с 3-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рон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7162920" y="3505320"/>
            <a:ext cx="1981080" cy="1904760"/>
          </a:xfrm>
          <a:prstGeom prst="wedgeRectCallout">
            <a:avLst>
              <a:gd name="adj1" fmla="val -57851"/>
              <a:gd name="adj2" fmla="val -107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хипелаг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группа остров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дящиеся  близко друг от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223720" y="54100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Грен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.   Мадагаск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812840" y="586728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-в Камчат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равий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979320" y="594360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лайский ар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6629400" y="21337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хипела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0" y="3505320"/>
            <a:ext cx="2133720" cy="2209680"/>
          </a:xfrm>
          <a:prstGeom prst="wedgeRectCallout">
            <a:avLst>
              <a:gd name="adj1" fmla="val -7217"/>
              <a:gd name="adj2" fmla="val -117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к-это огромный участок суши в Миров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80880" y="1752480"/>
            <a:ext cx="1981440" cy="304920"/>
          </a:xfrm>
          <a:prstGeom prst="rect">
            <a:avLst/>
          </a:prstGeom>
          <a:solidFill>
            <a:srgbClr val="e45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ер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75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625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925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21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71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371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960" y="2437920"/>
            <a:ext cx="43434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рова, архипелаги и полу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52600[1]"/>
          <p:cNvPicPr/>
          <p:nvPr/>
        </p:nvPicPr>
        <p:blipFill>
          <a:blip r:embed="rId2"/>
          <a:stretch/>
        </p:blipFill>
        <p:spPr>
          <a:xfrm>
            <a:off x="228600" y="914400"/>
            <a:ext cx="2162160" cy="1419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3601[1]"/>
          <p:cNvPicPr/>
          <p:nvPr/>
        </p:nvPicPr>
        <p:blipFill>
          <a:blip r:embed="rId3"/>
          <a:stretch/>
        </p:blipFill>
        <p:spPr>
          <a:xfrm>
            <a:off x="5943600" y="762120"/>
            <a:ext cx="290196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rcRect l="11903" t="8975" r="9524" b="18551"/>
          <a:stretch/>
        </p:blipFill>
        <p:spPr>
          <a:xfrm>
            <a:off x="0" y="2895480"/>
            <a:ext cx="5029200" cy="4038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2578320" y="539424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Мадагаск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09640" y="4006800"/>
            <a:ext cx="152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Шри-Ла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223280" y="365760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Сом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520080" y="3124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Индо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5105520" y="2971800"/>
            <a:ext cx="4038480" cy="5335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 по происхожд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5105520" y="3733920"/>
            <a:ext cx="1904760" cy="1143000"/>
          </a:xfrm>
          <a:prstGeom prst="wedgeRoundRectCallout">
            <a:avLst>
              <a:gd name="adj1" fmla="val 2773"/>
              <a:gd name="adj2" fmla="val -74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улкани-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6095880" y="5486400"/>
            <a:ext cx="1828800" cy="990720"/>
          </a:xfrm>
          <a:prstGeom prst="wedgeRoundRectCallout">
            <a:avLst>
              <a:gd name="adj1" fmla="val 2671"/>
              <a:gd name="adj2" fmla="val -25109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-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7238880" y="3733920"/>
            <a:ext cx="1905120" cy="1143000"/>
          </a:xfrm>
          <a:prstGeom prst="wedgeRoundRectCallout">
            <a:avLst>
              <a:gd name="adj1" fmla="val 26138"/>
              <a:gd name="adj2" fmla="val -831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ал-л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ка-9</dc:creator>
  <dc:description/>
  <dc:language>en-US</dc:language>
  <cp:lastModifiedBy>Admin</cp:lastModifiedBy>
  <dcterms:modified xsi:type="dcterms:W3CDTF">2012-09-09T12:35:5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