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d3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2243E2-300C-4DDB-803D-DFC0B9AAFE94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6"/>
          <p:cNvSpPr/>
          <p:nvPr/>
        </p:nvSpPr>
        <p:spPr>
          <a:xfrm>
            <a:off x="0" y="2500200"/>
            <a:ext cx="9144000" cy="1761840"/>
          </a:xfrm>
          <a:prstGeom prst="rect">
            <a:avLst/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РОК ОКРУЖАЮЩЕГО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КАКИЕ БЫВАЮТ РАСТЕНИ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TextBox 3"/>
          <p:cNvGrpSpPr/>
          <p:nvPr/>
        </p:nvGrpSpPr>
        <p:grpSpPr>
          <a:xfrm>
            <a:off x="6797520" y="4211640"/>
            <a:ext cx="2401920" cy="609480"/>
            <a:chOff x="6797520" y="4211640"/>
            <a:chExt cx="2401920" cy="609480"/>
          </a:xfrm>
        </p:grpSpPr>
        <p:pic>
          <p:nvPicPr>
            <p:cNvPr id="41" name="TextBox 3" descr=""/>
            <p:cNvPicPr/>
            <p:nvPr/>
          </p:nvPicPr>
          <p:blipFill>
            <a:blip r:embed="rId2"/>
            <a:stretch/>
          </p:blipFill>
          <p:spPr>
            <a:xfrm>
              <a:off x="6797520" y="4211640"/>
              <a:ext cx="24019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6858000" y="428616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2 КЛАС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" name="Звуки природы - Звуки леса  (audiopoisk.com).mp3" descr=""/>
          <p:cNvPicPr/>
          <p:nvPr/>
        </p:nvPicPr>
        <p:blipFill>
          <a:blip r:embed="rId3"/>
          <a:stretch/>
        </p:blipFill>
        <p:spPr>
          <a:xfrm>
            <a:off x="8839080" y="621504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4" name="Прямоугольник 6"/>
          <p:cNvGrpSpPr/>
          <p:nvPr/>
        </p:nvGrpSpPr>
        <p:grpSpPr>
          <a:xfrm>
            <a:off x="4011480" y="5346720"/>
            <a:ext cx="5187960" cy="474480"/>
            <a:chOff x="4011480" y="5346720"/>
            <a:chExt cx="5187960" cy="474480"/>
          </a:xfrm>
        </p:grpSpPr>
        <p:pic>
          <p:nvPicPr>
            <p:cNvPr id="45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011480" y="5346720"/>
              <a:ext cx="51879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071960" y="5380200"/>
              <a:ext cx="50720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Овал 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TextBox 2"/>
          <p:cNvGrpSpPr/>
          <p:nvPr/>
        </p:nvGrpSpPr>
        <p:grpSpPr>
          <a:xfrm>
            <a:off x="-60480" y="762120"/>
            <a:ext cx="6832800" cy="1073160"/>
            <a:chOff x="-60480" y="762120"/>
            <a:chExt cx="6832800" cy="1073160"/>
          </a:xfrm>
        </p:grpSpPr>
        <p:pic>
          <p:nvPicPr>
            <p:cNvPr id="142" name="TextBox 2" descr=""/>
            <p:cNvPicPr/>
            <p:nvPr/>
          </p:nvPicPr>
          <p:blipFill>
            <a:blip r:embed="rId1"/>
            <a:stretch/>
          </p:blipFill>
          <p:spPr>
            <a:xfrm>
              <a:off x="-60480" y="762120"/>
              <a:ext cx="68328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928800"/>
              <a:ext cx="671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рупповая работ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3"/>
          <p:cNvSpPr/>
          <p:nvPr/>
        </p:nvSpPr>
        <p:spPr>
          <a:xfrm>
            <a:off x="500040" y="3000240"/>
            <a:ext cx="592920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ИЕ ГРУППЫ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500040" y="3929040"/>
            <a:ext cx="5929200" cy="642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ЕМАТИЧЕСКИЙ 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500040" y="4857840"/>
            <a:ext cx="5929200" cy="642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БЕННОСТИ ДАННОГО В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 какие группы деля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00040" y="5715000"/>
            <a:ext cx="5929200" cy="6426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ИЕ  РАСТЕНИЙ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ИТЕЛЕЙ ДАННОЙ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TextBox 7"/>
          <p:cNvGrpSpPr/>
          <p:nvPr/>
        </p:nvGrpSpPr>
        <p:grpSpPr>
          <a:xfrm>
            <a:off x="1365120" y="1841400"/>
            <a:ext cx="3835440" cy="998640"/>
            <a:chOff x="1365120" y="1841400"/>
            <a:chExt cx="3835440" cy="998640"/>
          </a:xfrm>
        </p:grpSpPr>
        <p:pic>
          <p:nvPicPr>
            <p:cNvPr id="149" name="TextBox 7" descr=""/>
            <p:cNvPicPr/>
            <p:nvPr/>
          </p:nvPicPr>
          <p:blipFill>
            <a:blip r:embed="rId2"/>
            <a:stretch/>
          </p:blipFill>
          <p:spPr>
            <a:xfrm>
              <a:off x="1365120" y="1841400"/>
              <a:ext cx="3835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428840" y="2000160"/>
              <a:ext cx="3714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ПЛАН 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Группа 14"/>
          <p:cNvGrpSpPr/>
          <p:nvPr/>
        </p:nvGrpSpPr>
        <p:grpSpPr>
          <a:xfrm>
            <a:off x="6572160" y="2928960"/>
            <a:ext cx="2428920" cy="3500280"/>
            <a:chOff x="6572160" y="2928960"/>
            <a:chExt cx="2428920" cy="3500280"/>
          </a:xfrm>
        </p:grpSpPr>
        <p:grpSp>
          <p:nvGrpSpPr>
            <p:cNvPr id="152" name="Загнутый угол 8"/>
            <p:cNvGrpSpPr/>
            <p:nvPr/>
          </p:nvGrpSpPr>
          <p:grpSpPr>
            <a:xfrm>
              <a:off x="6572160" y="2928960"/>
              <a:ext cx="2428920" cy="3500280"/>
              <a:chOff x="6572160" y="2928960"/>
              <a:chExt cx="2428920" cy="3500280"/>
            </a:xfrm>
          </p:grpSpPr>
          <p:pic>
            <p:nvPicPr>
              <p:cNvPr id="153" name="Загнутый угол 8" descr=""/>
              <p:cNvPicPr/>
              <p:nvPr/>
            </p:nvPicPr>
            <p:blipFill>
              <a:blip r:embed="rId3"/>
              <a:stretch/>
            </p:blipFill>
            <p:spPr>
              <a:xfrm>
                <a:off x="6572160" y="2928960"/>
                <a:ext cx="2428920" cy="350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6630840" y="2967120"/>
                <a:ext cx="2315520" cy="257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5" name="Picture 1" descr=""/>
            <p:cNvPicPr/>
            <p:nvPr/>
          </p:nvPicPr>
          <p:blipFill>
            <a:blip r:embed="rId4"/>
            <a:stretch/>
          </p:blipFill>
          <p:spPr>
            <a:xfrm>
              <a:off x="7107480" y="3798360"/>
              <a:ext cx="1157760" cy="101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10"/>
            <p:cNvSpPr/>
            <p:nvPr/>
          </p:nvSpPr>
          <p:spPr>
            <a:xfrm>
              <a:off x="6766920" y="3159000"/>
              <a:ext cx="1974960" cy="368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НАЗВАНИЕ ГРУППЫ РАСТЕН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1"/>
            <p:cNvSpPr/>
            <p:nvPr/>
          </p:nvSpPr>
          <p:spPr>
            <a:xfrm>
              <a:off x="6766920" y="4949640"/>
              <a:ext cx="1974960" cy="3373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ОСОБЕННОСТИ ДАННОГО ВИДА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i="1" lang="ru-RU" sz="800" spc="-1" strike="noStrike">
                  <a:solidFill>
                    <a:srgbClr val="ffffff"/>
                  </a:solidFill>
                  <a:latin typeface="Arial"/>
                </a:rPr>
                <a:t>на какие группы делятся</a:t>
              </a: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2"/>
            <p:cNvSpPr/>
            <p:nvPr/>
          </p:nvSpPr>
          <p:spPr>
            <a:xfrm>
              <a:off x="6766920" y="3478680"/>
              <a:ext cx="1974960" cy="2156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СХЕМАТИЧЕСКИЙ РИСУНО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3"/>
            <p:cNvSpPr/>
            <p:nvPr/>
          </p:nvSpPr>
          <p:spPr>
            <a:xfrm>
              <a:off x="6698880" y="5397480"/>
              <a:ext cx="2034000" cy="30708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НАЗВАНИЕ  РАСТЕНИЙ 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ПРЕДСТАВИТЕЛЕЙ ДАННОЙ ГРУППЫ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Text Box 4"/>
          <p:cNvGrpSpPr/>
          <p:nvPr/>
        </p:nvGrpSpPr>
        <p:grpSpPr>
          <a:xfrm>
            <a:off x="2152800" y="1030320"/>
            <a:ext cx="4046400" cy="768240"/>
            <a:chOff x="2152800" y="1030320"/>
            <a:chExt cx="4046400" cy="768240"/>
          </a:xfrm>
        </p:grpSpPr>
        <p:pic>
          <p:nvPicPr>
            <p:cNvPr id="161" name="Text Box 4" descr=""/>
            <p:cNvPicPr/>
            <p:nvPr/>
          </p:nvPicPr>
          <p:blipFill>
            <a:blip r:embed="rId1"/>
            <a:stretch/>
          </p:blipFill>
          <p:spPr>
            <a:xfrm>
              <a:off x="2152800" y="1030320"/>
              <a:ext cx="40464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214720" y="1143000"/>
              <a:ext cx="392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РАСТ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5"/>
          <p:cNvSpPr/>
          <p:nvPr/>
        </p:nvSpPr>
        <p:spPr>
          <a:xfrm>
            <a:off x="6073920" y="2602080"/>
            <a:ext cx="264132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СТАР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785880" y="2602080"/>
            <a:ext cx="214632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РЕ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571920" y="2602080"/>
            <a:ext cx="165744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550960" y="4643280"/>
            <a:ext cx="187812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В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0" y="4643280"/>
            <a:ext cx="242892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714920" y="4643280"/>
            <a:ext cx="252108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7358040" y="4643280"/>
            <a:ext cx="178596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В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4508640" y="1790640"/>
            <a:ext cx="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 flipH="1">
            <a:off x="2060280" y="1790640"/>
            <a:ext cx="158436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5445000" y="1790640"/>
            <a:ext cx="165600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1009800" y="3214800"/>
            <a:ext cx="106992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2031840" y="3214800"/>
            <a:ext cx="83988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 flipH="1">
            <a:off x="5873400" y="3159000"/>
            <a:ext cx="129852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0"/>
          <p:cNvSpPr/>
          <p:nvPr/>
        </p:nvSpPr>
        <p:spPr>
          <a:xfrm>
            <a:off x="7115040" y="3159000"/>
            <a:ext cx="99396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Rectangle 21"/>
          <p:cNvGrpSpPr/>
          <p:nvPr/>
        </p:nvGrpSpPr>
        <p:grpSpPr>
          <a:xfrm>
            <a:off x="433440" y="103320"/>
            <a:ext cx="8613720" cy="768240"/>
            <a:chOff x="433440" y="103320"/>
            <a:chExt cx="8613720" cy="768240"/>
          </a:xfrm>
        </p:grpSpPr>
        <p:pic>
          <p:nvPicPr>
            <p:cNvPr id="178" name="Rectangle 21" descr=""/>
            <p:cNvPicPr/>
            <p:nvPr/>
          </p:nvPicPr>
          <p:blipFill>
            <a:blip r:embed="rId2"/>
            <a:stretch/>
          </p:blipFill>
          <p:spPr>
            <a:xfrm>
              <a:off x="433440" y="103320"/>
              <a:ext cx="8613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39720" y="214200"/>
              <a:ext cx="828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Заполните  схему. Приведите примеры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8"/>
          <p:cNvSpPr/>
          <p:nvPr/>
        </p:nvSpPr>
        <p:spPr>
          <a:xfrm>
            <a:off x="3429000" y="3571920"/>
            <a:ext cx="187812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тр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42960" y="5429160"/>
            <a:ext cx="242892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дерев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6357960" y="5429160"/>
            <a:ext cx="228600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кустар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2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Овал 3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42800" y="4285800"/>
            <a:ext cx="6257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14840" y="5214600"/>
            <a:ext cx="4829040" cy="1143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ение с пометами: стр.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Заголовок 1"/>
          <p:cNvSpPr/>
          <p:nvPr/>
        </p:nvSpPr>
        <p:spPr>
          <a:xfrm>
            <a:off x="0" y="1071720"/>
            <a:ext cx="8143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 в тетради на печатной осн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одержимое 2"/>
          <p:cNvSpPr/>
          <p:nvPr/>
        </p:nvSpPr>
        <p:spPr>
          <a:xfrm>
            <a:off x="285840" y="1785960"/>
            <a:ext cx="4829040" cy="1143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полнить задание    № 1 и 2 на стр. 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0" y="0"/>
            <a:ext cx="364320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СИНКВЕЙ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357120" y="114300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357280" y="114300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ДЕРЕ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0" y="2000160"/>
            <a:ext cx="2857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ОДНОСТВ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7000920" y="2428920"/>
            <a:ext cx="1928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ДУШИ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6643800" y="1143000"/>
            <a:ext cx="17859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ТРА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4286160" y="1143000"/>
            <a:ext cx="2214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УСТАР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Rectangle 1"/>
          <p:cNvGrpSpPr/>
          <p:nvPr/>
        </p:nvGrpSpPr>
        <p:grpSpPr>
          <a:xfrm>
            <a:off x="-66600" y="658800"/>
            <a:ext cx="8223120" cy="547560"/>
            <a:chOff x="-66600" y="658800"/>
            <a:chExt cx="8223120" cy="547560"/>
          </a:xfrm>
        </p:grpSpPr>
        <p:pic>
          <p:nvPicPr>
            <p:cNvPr id="198" name="Rectangle 1" descr=""/>
            <p:cNvPicPr/>
            <p:nvPr/>
          </p:nvPicPr>
          <p:blipFill>
            <a:blip r:embed="rId1"/>
            <a:stretch/>
          </p:blipFill>
          <p:spPr>
            <a:xfrm>
              <a:off x="-66600" y="658800"/>
              <a:ext cx="82231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3840" y="714960"/>
              <a:ext cx="80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Первая строка —одно слово предмет, о котором пойдет реч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Прямоугольник 10"/>
          <p:cNvGrpSpPr/>
          <p:nvPr/>
        </p:nvGrpSpPr>
        <p:grpSpPr>
          <a:xfrm>
            <a:off x="-60480" y="1584360"/>
            <a:ext cx="9259920" cy="530280"/>
            <a:chOff x="-60480" y="1584360"/>
            <a:chExt cx="9259920" cy="530280"/>
          </a:xfrm>
        </p:grpSpPr>
        <p:pic>
          <p:nvPicPr>
            <p:cNvPr id="201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-60480" y="1584360"/>
              <a:ext cx="9259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0" y="164304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торая строка — два слова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описание свойств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редм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1"/>
          <p:cNvSpPr/>
          <p:nvPr/>
        </p:nvSpPr>
        <p:spPr>
          <a:xfrm>
            <a:off x="2857680" y="2000160"/>
            <a:ext cx="30715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НОГОСТВ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2"/>
          <p:cNvSpPr/>
          <p:nvPr/>
        </p:nvSpPr>
        <p:spPr>
          <a:xfrm>
            <a:off x="1928880" y="2428920"/>
            <a:ext cx="1571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ЫСО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7572240" y="2000160"/>
            <a:ext cx="13575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ЯГ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4"/>
          <p:cNvSpPr/>
          <p:nvPr/>
        </p:nvSpPr>
        <p:spPr>
          <a:xfrm>
            <a:off x="4929120" y="242892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И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3429000" y="242892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ХВОЙ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СТ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7"/>
          <p:cNvSpPr/>
          <p:nvPr/>
        </p:nvSpPr>
        <p:spPr>
          <a:xfrm>
            <a:off x="0" y="2428920"/>
            <a:ext cx="1928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ЕТВИ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5929200" y="2000160"/>
            <a:ext cx="16430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С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21"/>
          <p:cNvGrpSpPr/>
          <p:nvPr/>
        </p:nvGrpSpPr>
        <p:grpSpPr>
          <a:xfrm>
            <a:off x="-85680" y="3017880"/>
            <a:ext cx="8448480" cy="530280"/>
            <a:chOff x="-85680" y="3017880"/>
            <a:chExt cx="8448480" cy="530280"/>
          </a:xfrm>
        </p:grpSpPr>
        <p:pic>
          <p:nvPicPr>
            <p:cNvPr id="212" name="Прямоугольник 21" descr=""/>
            <p:cNvPicPr/>
            <p:nvPr/>
          </p:nvPicPr>
          <p:blipFill>
            <a:blip r:embed="rId3"/>
            <a:stretch/>
          </p:blipFill>
          <p:spPr>
            <a:xfrm>
              <a:off x="-85680" y="3017880"/>
              <a:ext cx="84484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3071880"/>
              <a:ext cx="828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ретья строка — тир слова 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характерные действия предм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22"/>
          <p:cNvSpPr/>
          <p:nvPr/>
        </p:nvSpPr>
        <p:spPr>
          <a:xfrm>
            <a:off x="185724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ЦВЕТ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3"/>
          <p:cNvSpPr/>
          <p:nvPr/>
        </p:nvSpPr>
        <p:spPr>
          <a:xfrm>
            <a:off x="1428840" y="3929040"/>
            <a:ext cx="23572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ЗАЩИЩ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4"/>
          <p:cNvSpPr/>
          <p:nvPr/>
        </p:nvSpPr>
        <p:spPr>
          <a:xfrm>
            <a:off x="5357880" y="3929040"/>
            <a:ext cx="22143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УКРАШ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5"/>
          <p:cNvSpPr/>
          <p:nvPr/>
        </p:nvSpPr>
        <p:spPr>
          <a:xfrm>
            <a:off x="7429680" y="350028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УВЯД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6"/>
          <p:cNvSpPr/>
          <p:nvPr/>
        </p:nvSpPr>
        <p:spPr>
          <a:xfrm>
            <a:off x="557208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ОРМ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7"/>
          <p:cNvSpPr/>
          <p:nvPr/>
        </p:nvSpPr>
        <p:spPr>
          <a:xfrm>
            <a:off x="3714840" y="350028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Д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Прямоугольник 28"/>
          <p:cNvGrpSpPr/>
          <p:nvPr/>
        </p:nvGrpSpPr>
        <p:grpSpPr>
          <a:xfrm>
            <a:off x="-79200" y="4370400"/>
            <a:ext cx="9369360" cy="530280"/>
            <a:chOff x="-79200" y="4370400"/>
            <a:chExt cx="9369360" cy="530280"/>
          </a:xfrm>
        </p:grpSpPr>
        <p:pic>
          <p:nvPicPr>
            <p:cNvPr id="221" name="Прямоугольник 28" descr=""/>
            <p:cNvPicPr/>
            <p:nvPr/>
          </p:nvPicPr>
          <p:blipFill>
            <a:blip r:embed="rId4"/>
            <a:stretch/>
          </p:blipFill>
          <p:spPr>
            <a:xfrm>
              <a:off x="-79200" y="4370400"/>
              <a:ext cx="936936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0" y="442908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Четвертая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строка-четыре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слова,  личное отношение автора к предмет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29"/>
          <p:cNvSpPr/>
          <p:nvPr/>
        </p:nvSpPr>
        <p:spPr>
          <a:xfrm>
            <a:off x="0" y="485784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Ы БУДЕМ ВАС ОБЕРЕГ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0"/>
          <p:cNvSpPr/>
          <p:nvPr/>
        </p:nvSpPr>
        <p:spPr>
          <a:xfrm>
            <a:off x="4929120" y="485784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ЮБУЕМСЯ ИХ КРАС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1"/>
          <p:cNvSpPr/>
          <p:nvPr/>
        </p:nvSpPr>
        <p:spPr>
          <a:xfrm>
            <a:off x="2500200" y="521496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ЮДЕЙ ВЫ РАДУЙТЕ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Прямоугольник 32"/>
          <p:cNvGrpSpPr/>
          <p:nvPr/>
        </p:nvGrpSpPr>
        <p:grpSpPr>
          <a:xfrm>
            <a:off x="-60480" y="5730840"/>
            <a:ext cx="9259920" cy="530280"/>
            <a:chOff x="-60480" y="5730840"/>
            <a:chExt cx="9259920" cy="530280"/>
          </a:xfrm>
        </p:grpSpPr>
        <p:pic>
          <p:nvPicPr>
            <p:cNvPr id="227" name="Прямоугольник 32" descr=""/>
            <p:cNvPicPr/>
            <p:nvPr/>
          </p:nvPicPr>
          <p:blipFill>
            <a:blip r:embed="rId5"/>
            <a:stretch/>
          </p:blipFill>
          <p:spPr>
            <a:xfrm>
              <a:off x="-60480" y="5730840"/>
              <a:ext cx="9259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0" y="578628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ятая строка — одно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слово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, характеризующее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суть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 предмет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33"/>
          <p:cNvSpPr/>
          <p:nvPr/>
        </p:nvSpPr>
        <p:spPr>
          <a:xfrm>
            <a:off x="4714920" y="621504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РАС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4"/>
          <p:cNvSpPr/>
          <p:nvPr/>
        </p:nvSpPr>
        <p:spPr>
          <a:xfrm>
            <a:off x="2357280" y="621504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РИ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5"/>
          <p:cNvSpPr/>
          <p:nvPr/>
        </p:nvSpPr>
        <p:spPr>
          <a:xfrm>
            <a:off x="0" y="621504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ЖИ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6"/>
          <p:cNvSpPr/>
          <p:nvPr/>
        </p:nvSpPr>
        <p:spPr>
          <a:xfrm>
            <a:off x="6715080" y="6215040"/>
            <a:ext cx="24289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ЗНООБРАЗ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1"/>
          <p:cNvSpPr/>
          <p:nvPr/>
        </p:nvSpPr>
        <p:spPr>
          <a:xfrm>
            <a:off x="2143080" y="1785960"/>
            <a:ext cx="6257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2"/>
          <p:cNvSpPr/>
          <p:nvPr/>
        </p:nvSpPr>
        <p:spPr>
          <a:xfrm>
            <a:off x="500040" y="2786040"/>
            <a:ext cx="8215200" cy="3357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. 64– 67 –читать, отвечать на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ка индивидуальных сообщений о необыкновенных растениях нашей плане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ка вопросов проверочного теста по изученной теме к следующему у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Заголовок 1"/>
          <p:cNvSpPr/>
          <p:nvPr/>
        </p:nvSpPr>
        <p:spPr>
          <a:xfrm>
            <a:off x="500040" y="1071720"/>
            <a:ext cx="6257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5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Овал 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Прямоугольник 2"/>
          <p:cNvGrpSpPr/>
          <p:nvPr/>
        </p:nvGrpSpPr>
        <p:grpSpPr>
          <a:xfrm>
            <a:off x="-23760" y="878040"/>
            <a:ext cx="8655120" cy="841320"/>
            <a:chOff x="-23760" y="878040"/>
            <a:chExt cx="8655120" cy="841320"/>
          </a:xfrm>
        </p:grpSpPr>
        <p:pic>
          <p:nvPicPr>
            <p:cNvPr id="239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-23760" y="878040"/>
              <a:ext cx="86551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14200" y="1000080"/>
              <a:ext cx="835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Список используемых источнико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Прямоугольник 3"/>
          <p:cNvSpPr/>
          <p:nvPr/>
        </p:nvSpPr>
        <p:spPr>
          <a:xfrm>
            <a:off x="285840" y="2571840"/>
            <a:ext cx="8572320" cy="20142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rt-orenburg.narod.ru/nature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tendzakaz.ru/list.php?table=k_om3&amp;page_title=%CE%EA%F0%F3%E6%E0%FE%F9%E8%E9+%EC%E8%F0.+3+%EA%EB%E0%F1%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pt4web.ru/okruzhajushhijj-mir/okruzhajushhijj-mi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nm.ru/blogs/BlackWolfik/wonderful-plants-wallpaper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00008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евиз 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Содержимое 3"/>
          <p:cNvGrpSpPr/>
          <p:nvPr/>
        </p:nvGrpSpPr>
        <p:grpSpPr>
          <a:xfrm>
            <a:off x="30240" y="3035160"/>
            <a:ext cx="9246960" cy="2354400"/>
            <a:chOff x="30240" y="3035160"/>
            <a:chExt cx="9246960" cy="2354400"/>
          </a:xfrm>
        </p:grpSpPr>
        <p:pic>
          <p:nvPicPr>
            <p:cNvPr id="49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30240" y="3035160"/>
              <a:ext cx="924696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85840" y="3071880"/>
              <a:ext cx="857232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 algn="ctr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«</a:t>
              </a:r>
              <a:r>
                <a:rPr b="1" lang="ru-RU" sz="4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 говори, чему учился, а говори, что узнал».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Овал 4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56880" y="285480"/>
            <a:ext cx="48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ест «ВОД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Прямоугольник 4"/>
          <p:cNvGrpSpPr/>
          <p:nvPr/>
        </p:nvGrpSpPr>
        <p:grpSpPr>
          <a:xfrm>
            <a:off x="-225360" y="1231920"/>
            <a:ext cx="9424800" cy="1401840"/>
            <a:chOff x="-225360" y="1231920"/>
            <a:chExt cx="9424800" cy="1401840"/>
          </a:xfrm>
        </p:grpSpPr>
        <p:pic>
          <p:nvPicPr>
            <p:cNvPr id="55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225360" y="1231920"/>
              <a:ext cx="94248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35720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Сколько состояний воды бывает 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природе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Скругленный прямоугольник 5"/>
          <p:cNvGrpSpPr/>
          <p:nvPr/>
        </p:nvGrpSpPr>
        <p:grpSpPr>
          <a:xfrm>
            <a:off x="390600" y="2889360"/>
            <a:ext cx="3736800" cy="1042920"/>
            <a:chOff x="390600" y="2889360"/>
            <a:chExt cx="3736800" cy="1042920"/>
          </a:xfrm>
        </p:grpSpPr>
        <p:pic>
          <p:nvPicPr>
            <p:cNvPr id="58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90600" y="2889360"/>
              <a:ext cx="373680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90480" y="311940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а) тр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Скругленный прямоугольник 6"/>
          <p:cNvGrpSpPr/>
          <p:nvPr/>
        </p:nvGrpSpPr>
        <p:grpSpPr>
          <a:xfrm>
            <a:off x="317520" y="4243320"/>
            <a:ext cx="3736800" cy="1041480"/>
            <a:chOff x="317520" y="4243320"/>
            <a:chExt cx="3736800" cy="1041480"/>
          </a:xfrm>
        </p:grpSpPr>
        <p:pic>
          <p:nvPicPr>
            <p:cNvPr id="6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7520" y="4243320"/>
              <a:ext cx="373680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19200" y="447660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б) дв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3" descr=""/>
          <p:cNvPicPr/>
          <p:nvPr/>
        </p:nvPicPr>
        <p:blipFill>
          <a:blip r:embed="rId4"/>
          <a:stretch/>
        </p:blipFill>
        <p:spPr>
          <a:xfrm>
            <a:off x="4449600" y="3060720"/>
            <a:ext cx="4206960" cy="3200400"/>
          </a:xfrm>
          <a:prstGeom prst="rect">
            <a:avLst/>
          </a:prstGeom>
          <a:ln w="0">
            <a:noFill/>
          </a:ln>
        </p:spPr>
      </p:pic>
      <p:grpSp>
        <p:nvGrpSpPr>
          <p:cNvPr id="64" name="Скругленный прямоугольник 10"/>
          <p:cNvGrpSpPr/>
          <p:nvPr/>
        </p:nvGrpSpPr>
        <p:grpSpPr>
          <a:xfrm>
            <a:off x="390600" y="5529240"/>
            <a:ext cx="3736800" cy="1042920"/>
            <a:chOff x="390600" y="5529240"/>
            <a:chExt cx="3736800" cy="1042920"/>
          </a:xfrm>
        </p:grpSpPr>
        <p:pic>
          <p:nvPicPr>
            <p:cNvPr id="65" name="Скругленный 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390600" y="5529240"/>
              <a:ext cx="373680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90480" y="576252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в) одн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214880" y="3000240"/>
            <a:ext cx="45720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69" name="Прямоугольник 4"/>
          <p:cNvGrpSpPr/>
          <p:nvPr/>
        </p:nvGrpSpPr>
        <p:grpSpPr>
          <a:xfrm>
            <a:off x="-122400" y="165240"/>
            <a:ext cx="9321840" cy="1395360"/>
            <a:chOff x="-122400" y="165240"/>
            <a:chExt cx="9321840" cy="1395360"/>
          </a:xfrm>
        </p:grpSpPr>
        <p:pic>
          <p:nvPicPr>
            <p:cNvPr id="70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22400" y="165240"/>
              <a:ext cx="932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0" y="28584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2.  Какое свойство воды названо неверно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Скругленный прямоугольник 7"/>
          <p:cNvGrpSpPr/>
          <p:nvPr/>
        </p:nvGrpSpPr>
        <p:grpSpPr>
          <a:xfrm>
            <a:off x="225360" y="1822320"/>
            <a:ext cx="4761000" cy="1397160"/>
            <a:chOff x="225360" y="1822320"/>
            <a:chExt cx="4761000" cy="1397160"/>
          </a:xfrm>
        </p:grpSpPr>
        <p:pic>
          <p:nvPicPr>
            <p:cNvPr id="73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25360" y="1822320"/>
              <a:ext cx="47610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65120" y="2036880"/>
              <a:ext cx="428472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вода прозрач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Скругленный прямоугольник 8"/>
          <p:cNvGrpSpPr/>
          <p:nvPr/>
        </p:nvGrpSpPr>
        <p:grpSpPr>
          <a:xfrm>
            <a:off x="152280" y="3322800"/>
            <a:ext cx="4900680" cy="1395360"/>
            <a:chOff x="152280" y="3322800"/>
            <a:chExt cx="4900680" cy="1395360"/>
          </a:xfrm>
        </p:grpSpPr>
        <p:pic>
          <p:nvPicPr>
            <p:cNvPr id="76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152280" y="3322800"/>
              <a:ext cx="490068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93840" y="3537000"/>
              <a:ext cx="442728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 вода имеет белый цв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Скругленный прямоугольник 9"/>
          <p:cNvGrpSpPr/>
          <p:nvPr/>
        </p:nvGrpSpPr>
        <p:grpSpPr>
          <a:xfrm>
            <a:off x="152280" y="4821120"/>
            <a:ext cx="4761000" cy="1397160"/>
            <a:chOff x="152280" y="4821120"/>
            <a:chExt cx="4761000" cy="1397160"/>
          </a:xfrm>
        </p:grpSpPr>
        <p:pic>
          <p:nvPicPr>
            <p:cNvPr id="79" name="Скругленный 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152280" y="4821120"/>
              <a:ext cx="47610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93840" y="5037120"/>
              <a:ext cx="428436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вода не имеет запах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1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11749" t="0" r="8736" b="8285"/>
          <a:stretch/>
        </p:blipFill>
        <p:spPr>
          <a:xfrm>
            <a:off x="4643280" y="3500280"/>
            <a:ext cx="3997440" cy="3016440"/>
          </a:xfrm>
          <a:prstGeom prst="rect">
            <a:avLst/>
          </a:prstGeom>
          <a:ln w="0">
            <a:noFill/>
          </a:ln>
        </p:spPr>
      </p:pic>
      <p:grpSp>
        <p:nvGrpSpPr>
          <p:cNvPr id="83" name="Прямоугольник 4"/>
          <p:cNvGrpSpPr/>
          <p:nvPr/>
        </p:nvGrpSpPr>
        <p:grpSpPr>
          <a:xfrm>
            <a:off x="-244440" y="590400"/>
            <a:ext cx="9443880" cy="1397160"/>
            <a:chOff x="-244440" y="590400"/>
            <a:chExt cx="9443880" cy="1397160"/>
          </a:xfrm>
        </p:grpSpPr>
        <p:pic>
          <p:nvPicPr>
            <p:cNvPr id="8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244440" y="590400"/>
              <a:ext cx="94438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71424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. Какие объекты природы не могут существовать без воды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Скругленный прямоугольник 5"/>
          <p:cNvGrpSpPr/>
          <p:nvPr/>
        </p:nvGrpSpPr>
        <p:grpSpPr>
          <a:xfrm>
            <a:off x="298440" y="2109960"/>
            <a:ext cx="4114800" cy="961920"/>
            <a:chOff x="298440" y="2109960"/>
            <a:chExt cx="4114800" cy="961920"/>
          </a:xfrm>
        </p:grpSpPr>
        <p:pic>
          <p:nvPicPr>
            <p:cNvPr id="87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98440" y="2109960"/>
              <a:ext cx="41148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76280" y="2262240"/>
              <a:ext cx="376236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солнц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Скругленный прямоугольник 6"/>
          <p:cNvGrpSpPr/>
          <p:nvPr/>
        </p:nvGrpSpPr>
        <p:grpSpPr>
          <a:xfrm>
            <a:off x="298440" y="3535200"/>
            <a:ext cx="4237200" cy="970200"/>
            <a:chOff x="298440" y="3535200"/>
            <a:chExt cx="4237200" cy="970200"/>
          </a:xfrm>
        </p:grpSpPr>
        <p:pic>
          <p:nvPicPr>
            <p:cNvPr id="90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298440" y="3535200"/>
              <a:ext cx="423720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76280" y="3691080"/>
              <a:ext cx="388620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возду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кругленный прямоугольник 7"/>
          <p:cNvGrpSpPr/>
          <p:nvPr/>
        </p:nvGrpSpPr>
        <p:grpSpPr>
          <a:xfrm>
            <a:off x="365040" y="4962600"/>
            <a:ext cx="4121280" cy="968400"/>
            <a:chOff x="365040" y="4962600"/>
            <a:chExt cx="4121280" cy="968400"/>
          </a:xfrm>
        </p:grpSpPr>
        <p:pic>
          <p:nvPicPr>
            <p:cNvPr id="93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65040" y="4962600"/>
              <a:ext cx="41212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47560" y="5119560"/>
              <a:ext cx="376236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подсолну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1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071960" y="3071880"/>
            <a:ext cx="45576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97" name="Прямоугольник 4"/>
          <p:cNvGrpSpPr/>
          <p:nvPr/>
        </p:nvGrpSpPr>
        <p:grpSpPr>
          <a:xfrm>
            <a:off x="-244440" y="590400"/>
            <a:ext cx="9443880" cy="841680"/>
            <a:chOff x="-244440" y="590400"/>
            <a:chExt cx="9443880" cy="841680"/>
          </a:xfrm>
        </p:grpSpPr>
        <p:pic>
          <p:nvPicPr>
            <p:cNvPr id="98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244440" y="590400"/>
              <a:ext cx="944388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71424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. К какой группе относится вода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Скругленный прямоугольник 5"/>
          <p:cNvGrpSpPr/>
          <p:nvPr/>
        </p:nvGrpSpPr>
        <p:grpSpPr>
          <a:xfrm>
            <a:off x="298440" y="2109960"/>
            <a:ext cx="5688000" cy="961920"/>
            <a:chOff x="298440" y="2109960"/>
            <a:chExt cx="5688000" cy="961920"/>
          </a:xfrm>
        </p:grpSpPr>
        <p:pic>
          <p:nvPicPr>
            <p:cNvPr id="101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98440" y="2109960"/>
              <a:ext cx="56880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76280" y="2262240"/>
              <a:ext cx="53341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неживая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Скругленный прямоугольник 6"/>
          <p:cNvGrpSpPr/>
          <p:nvPr/>
        </p:nvGrpSpPr>
        <p:grpSpPr>
          <a:xfrm>
            <a:off x="298440" y="3535200"/>
            <a:ext cx="5688000" cy="970200"/>
            <a:chOff x="298440" y="3535200"/>
            <a:chExt cx="5688000" cy="970200"/>
          </a:xfrm>
        </p:grpSpPr>
        <p:pic>
          <p:nvPicPr>
            <p:cNvPr id="104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298440" y="3535200"/>
              <a:ext cx="568800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76280" y="3691080"/>
              <a:ext cx="53341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живая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Скругленный прямоугольник 7"/>
          <p:cNvGrpSpPr/>
          <p:nvPr/>
        </p:nvGrpSpPr>
        <p:grpSpPr>
          <a:xfrm>
            <a:off x="365040" y="4962600"/>
            <a:ext cx="5548320" cy="968400"/>
            <a:chOff x="365040" y="4962600"/>
            <a:chExt cx="5548320" cy="968400"/>
          </a:xfrm>
        </p:grpSpPr>
        <p:pic>
          <p:nvPicPr>
            <p:cNvPr id="107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65040" y="4962600"/>
              <a:ext cx="55483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47560" y="5119560"/>
              <a:ext cx="519120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не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7"/>
          <p:cNvSpPr/>
          <p:nvPr/>
        </p:nvSpPr>
        <p:spPr>
          <a:xfrm>
            <a:off x="2500200" y="3429000"/>
            <a:ext cx="2071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7215120" y="2143080"/>
            <a:ext cx="13575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714920" y="3429000"/>
            <a:ext cx="1500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42920" y="2143080"/>
            <a:ext cx="2319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М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929040" y="5786280"/>
            <a:ext cx="22147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ЯБЛО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00200" y="4714920"/>
            <a:ext cx="11430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357880" y="2143080"/>
            <a:ext cx="17143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С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14200" y="342900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И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571840" y="2143080"/>
            <a:ext cx="2643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ОМА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429240" y="3429000"/>
            <a:ext cx="27147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ЮЛЬП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1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14200" y="471492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В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14200" y="5786280"/>
            <a:ext cx="12146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643040" y="578628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500800" y="4714920"/>
            <a:ext cx="31431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ЗАБУ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286680" y="578628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857760" y="4714920"/>
            <a:ext cx="1500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TextBox 20"/>
          <p:cNvGrpSpPr/>
          <p:nvPr/>
        </p:nvGrpSpPr>
        <p:grpSpPr>
          <a:xfrm>
            <a:off x="12600" y="590400"/>
            <a:ext cx="8313840" cy="1635120"/>
            <a:chOff x="12600" y="590400"/>
            <a:chExt cx="8313840" cy="1635120"/>
          </a:xfrm>
        </p:grpSpPr>
        <p:pic>
          <p:nvPicPr>
            <p:cNvPr id="127" name="TextBox 20" descr=""/>
            <p:cNvPicPr/>
            <p:nvPr/>
          </p:nvPicPr>
          <p:blipFill>
            <a:blip r:embed="rId1"/>
            <a:stretch/>
          </p:blipFill>
          <p:spPr>
            <a:xfrm>
              <a:off x="12600" y="590400"/>
              <a:ext cx="831384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14200" y="714240"/>
              <a:ext cx="7643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 Antiqua"/>
                </a:rPr>
                <a:t>НАЗОВИТЕ ПРЕДМЕТЫ, КОТОРЫЕ ОТНОСЯТСЯ К ЖИВОЙ ПРИРОД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3"/>
          <p:cNvSpPr/>
          <p:nvPr/>
        </p:nvSpPr>
        <p:spPr>
          <a:xfrm>
            <a:off x="0" y="855720"/>
            <a:ext cx="3786120" cy="59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раснеют на солнц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осен стволы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Разносится всюду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Запах смолы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А ландышей белых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исти висят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ак тонок и нежен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х аромат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 лесу иду я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есню пою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 слышит орешник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есню мою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квозь ветви густы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олнце глядит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Берёзка в ответ мн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Листвою шумит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TextBox 2"/>
          <p:cNvGrpSpPr/>
          <p:nvPr/>
        </p:nvGrpSpPr>
        <p:grpSpPr>
          <a:xfrm>
            <a:off x="3151080" y="49320"/>
            <a:ext cx="6048360" cy="1066680"/>
            <a:chOff x="3151080" y="49320"/>
            <a:chExt cx="6048360" cy="1066680"/>
          </a:xfrm>
        </p:grpSpPr>
        <p:pic>
          <p:nvPicPr>
            <p:cNvPr id="132" name="TextBox 2" descr=""/>
            <p:cNvPicPr/>
            <p:nvPr/>
          </p:nvPicPr>
          <p:blipFill>
            <a:blip r:embed="rId1"/>
            <a:stretch/>
          </p:blipFill>
          <p:spPr>
            <a:xfrm>
              <a:off x="3151080" y="49320"/>
              <a:ext cx="6048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214800" y="214200"/>
              <a:ext cx="5929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СТЕНИ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6" descr="http://go4.imgsmail.ru/imgpreview?key=http%3A//mr-parkett.ru/upload/Image/2/10.png&amp;mb=imgdb_preview_1630"/>
          <p:cNvPicPr/>
          <p:nvPr/>
        </p:nvPicPr>
        <p:blipFill>
          <a:blip r:embed="rId2"/>
          <a:stretch/>
        </p:blipFill>
        <p:spPr>
          <a:xfrm>
            <a:off x="4929120" y="1857240"/>
            <a:ext cx="3429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1928880" y="1071720"/>
            <a:ext cx="4429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TextBox 3"/>
          <p:cNvGrpSpPr/>
          <p:nvPr/>
        </p:nvGrpSpPr>
        <p:grpSpPr>
          <a:xfrm>
            <a:off x="512640" y="2712960"/>
            <a:ext cx="8186760" cy="2230560"/>
            <a:chOff x="512640" y="2712960"/>
            <a:chExt cx="8186760" cy="2230560"/>
          </a:xfrm>
        </p:grpSpPr>
        <p:pic>
          <p:nvPicPr>
            <p:cNvPr id="138" name="TextBox 3" descr=""/>
            <p:cNvPicPr/>
            <p:nvPr/>
          </p:nvPicPr>
          <p:blipFill>
            <a:blip r:embed="rId1"/>
            <a:stretch/>
          </p:blipFill>
          <p:spPr>
            <a:xfrm>
              <a:off x="512640" y="2712960"/>
              <a:ext cx="818676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71680" y="2928960"/>
              <a:ext cx="80722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акие бывают растения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XTreme.ws</cp:lastModifiedBy>
  <dcterms:modified xsi:type="dcterms:W3CDTF">2020-10-26T11:35:22Z</dcterms:modified>
  <cp:revision>182</cp:revision>
  <dc:subject/>
  <dc:title>Colorful Spring Flowers</dc:title>
</cp:coreProperties>
</file>