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5.jpeg" ContentType="image/jpeg"/>
  <Override PartName="/ppt/media/image26.jpeg" ContentType="image/jpeg"/>
  <Override PartName="/ppt/media/image21.gif" ContentType="image/gif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4.png" ContentType="image/png"/>
  <Override PartName="/ppt/media/image24.gif" ContentType="image/gif"/>
  <Override PartName="/ppt/media/image27.png" ContentType="image/png"/>
  <Override PartName="/ppt/media/image14.png" ContentType="image/png"/>
  <Override PartName="/ppt/media/image1.jpeg" ContentType="image/jpeg"/>
  <Override PartName="/ppt/media/image23.gif" ContentType="image/gif"/>
  <Override PartName="/ppt/media/image3.png" ContentType="image/png"/>
  <Override PartName="/ppt/media/image22.gif" ContentType="image/gif"/>
  <Override PartName="/ppt/media/image25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BD86-808A-44F5-886E-FD697BE8D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A10D-C110-4D0A-8CE5-D750E86A4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FE91-20F5-4E31-BBB7-11F595B3E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629F-3E1F-4404-9002-380BBE9A2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83ED-40C2-4C14-A267-BDDE5402F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0ADB-5623-44B7-A4AD-A14051344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29AC-124C-4887-8128-B5726DC2A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830D-19F1-4C2B-B9B9-EF6575F9B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1DD3-6B11-4E9D-A610-E35C8D885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2A50-7821-47F2-A45C-A1D1277FE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70CE-C9F8-4DF2-834D-301A05AB7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9D6D-B305-4ED4-86BC-B2EC483C2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3B586-C0DB-4B84-B478-6B2EB4B080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gif"/><Relationship Id="rId4" Type="http://schemas.openxmlformats.org/officeDocument/2006/relationships/image" Target="../media/image22.gif"/><Relationship Id="rId5" Type="http://schemas.openxmlformats.org/officeDocument/2006/relationships/image" Target="../media/image23.gif"/><Relationship Id="rId6" Type="http://schemas.openxmlformats.org/officeDocument/2006/relationships/image" Target="../media/image24.gif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vntech.ru/7382-yaponiya-14-iyulya-v-yaponii-proizoshlo-ocherednoe-zemletryasenie.html" TargetMode="External"/><Relationship Id="rId3" Type="http://schemas.openxmlformats.org/officeDocument/2006/relationships/hyperlink" Target="http://myhdplayer.ru/kak-vybrat-stacionarnyj-mediapleer.html/vopros" TargetMode="External"/><Relationship Id="rId4" Type="http://schemas.openxmlformats.org/officeDocument/2006/relationships/hyperlink" Target="http://ria.ru/infografika/20111227/528012457.html" TargetMode="External"/><Relationship Id="rId5" Type="http://schemas.openxmlformats.org/officeDocument/2006/relationships/hyperlink" Target="http://fotki.yandex.ru/users/slavafoto/view/138256/" TargetMode="External"/><Relationship Id="rId6" Type="http://schemas.openxmlformats.org/officeDocument/2006/relationships/hyperlink" Target="http://stroitel2011.ru/?q=&#1057;&#1085;&#1077;&#1078;&#1085;&#1072;&#1103;+&#1083;&#1072;&#1074;&#1080;&#1085;&#1072;&amp;n=5" TargetMode="External"/><Relationship Id="rId7" Type="http://schemas.openxmlformats.org/officeDocument/2006/relationships/hyperlink" Target="http://stroitel2011.ru/?q=&#1057;&#1085;&#1077;&#1078;&#1085;&#1072;&#1103;+&#1083;&#1072;&#1074;&#1080;&#1085;&#1072;&amp;n=5" TargetMode="External"/><Relationship Id="rId8" Type="http://schemas.openxmlformats.org/officeDocument/2006/relationships/hyperlink" Target="http://stroitel2011.ru/?q=&#1057;&#1085;&#1077;&#1078;&#1085;&#1072;&#1103;+&#1083;&#1072;&#1074;&#1080;&#1085;&#1072;&amp;n=5" TargetMode="External"/><Relationship Id="rId9" Type="http://schemas.openxmlformats.org/officeDocument/2006/relationships/hyperlink" Target="http://www.yaplakal.com/forum3/st/25/topic337321.html" TargetMode="External"/><Relationship Id="rId10" Type="http://schemas.openxmlformats.org/officeDocument/2006/relationships/hyperlink" Target="http://news.lala24.net/tag/&#1103;&#1087;&#1086;&#1085;&#1080;&#1080;/page/2/" TargetMode="External"/><Relationship Id="rId11" Type="http://schemas.openxmlformats.org/officeDocument/2006/relationships/hyperlink" Target="http://news.lala24.net/tag/&#1103;&#1087;&#1086;&#1085;&#1080;&#1080;/page/2/" TargetMode="External"/><Relationship Id="rId12" Type="http://schemas.openxmlformats.org/officeDocument/2006/relationships/hyperlink" Target="http://news.lala24.net/tag/&#1103;&#1087;&#1086;&#1085;&#1080;&#1080;/page/2/" TargetMode="External"/><Relationship Id="rId13" Type="http://schemas.openxmlformats.org/officeDocument/2006/relationships/hyperlink" Target="http://news.lala24.net/tag/&#1103;&#1087;&#1086;&#1085;&#1080;&#1080;/page/2/" TargetMode="External"/><Relationship Id="rId14" Type="http://schemas.openxmlformats.org/officeDocument/2006/relationships/hyperlink" Target="http://www.i-g-t.org/2011/10/26/&#1090;&#1072;&#1080;&#1083;&#1072;&#1085;&#1076;-&#1091;&#1093;&#1086;&#1076;&#1080;&#1090;-&#1087;&#1086;&#1076;-&#1074;&#1086;&#1076;&#1091;/" TargetMode="External"/><Relationship Id="rId15" Type="http://schemas.openxmlformats.org/officeDocument/2006/relationships/hyperlink" Target="http://www.i-g-t.org/2011/10/26/&#1090;&#1072;&#1080;&#1083;&#1072;&#1085;&#1076;-&#1091;&#1093;&#1086;&#1076;&#1080;&#1090;-&#1087;&#1086;&#1076;-&#1074;&#1086;&#1076;&#1091;/" TargetMode="External"/><Relationship Id="rId16" Type="http://schemas.openxmlformats.org/officeDocument/2006/relationships/hyperlink" Target="http://www.i-g-t.org/2011/10/26/&#1090;&#1072;&#1080;&#1083;&#1072;&#1085;&#1076;-&#1091;&#1093;&#1086;&#1076;&#1080;&#1090;-&#1087;&#1086;&#1076;-&#1074;&#1086;&#1076;&#1091;/" TargetMode="External"/><Relationship Id="rId17" Type="http://schemas.openxmlformats.org/officeDocument/2006/relationships/hyperlink" Target="http://altaisat.com/forums/index.php?topic=1603.400" TargetMode="External"/><Relationship Id="rId18" Type="http://schemas.openxmlformats.org/officeDocument/2006/relationships/hyperlink" Target="http://altaisat.com/forums/index.php?topic=1603.400" TargetMode="External"/><Relationship Id="rId19" Type="http://schemas.openxmlformats.org/officeDocument/2006/relationships/hyperlink" Target="http://altaisat.com/forums/index.php?topic=1603.400" TargetMode="External"/><Relationship Id="rId20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dozor.kharkov.ua/proisshestviya/katastrofy/1079464.html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151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Урок 2. </a:t>
            </a: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ЗЕМЛЕТРЯСЕНИЕ</a:t>
            </a:r>
            <a:br>
              <a:rPr sz="66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7 клас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24000" y="5300280"/>
            <a:ext cx="84960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Голуб Марина Геннадьевна учитель ОБЖ,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 категория МОКУ Таскинская ООШ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Рисунок 3" descr="1310637561_67921.jpg"/>
          <p:cNvPicPr/>
          <p:nvPr/>
        </p:nvPicPr>
        <p:blipFill>
          <a:blip r:embed="rId2"/>
          <a:stretch/>
        </p:blipFill>
        <p:spPr>
          <a:xfrm>
            <a:off x="2408400" y="1908000"/>
            <a:ext cx="4260600" cy="32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124000" y="333360"/>
            <a:ext cx="489600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Типы разлом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Рисунок 3" descr="Razlom_Types.jpg"/>
          <p:cNvPicPr/>
          <p:nvPr/>
        </p:nvPicPr>
        <p:blipFill>
          <a:blip r:embed="rId2"/>
          <a:stretch/>
        </p:blipFill>
        <p:spPr>
          <a:xfrm>
            <a:off x="468360" y="1341360"/>
            <a:ext cx="2808360" cy="2328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2" name="Рисунок 4" descr="Razlom_Types.jpg"/>
          <p:cNvPicPr/>
          <p:nvPr/>
        </p:nvPicPr>
        <p:blipFill>
          <a:blip r:embed="rId3"/>
          <a:stretch/>
        </p:blipFill>
        <p:spPr>
          <a:xfrm>
            <a:off x="5867280" y="1341360"/>
            <a:ext cx="2808360" cy="2328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3" name="Рисунок 5" descr="Razlom_Types.jpg"/>
          <p:cNvPicPr/>
          <p:nvPr/>
        </p:nvPicPr>
        <p:blipFill>
          <a:blip r:embed="rId4"/>
          <a:stretch/>
        </p:blipFill>
        <p:spPr>
          <a:xfrm>
            <a:off x="3132000" y="4149720"/>
            <a:ext cx="2808360" cy="2328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Тема уро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ОРАЖАЮЩИЕ ФАКТОРЫ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ЗЕМЛЕТРЯСЕНИЙ И ИХ ПОСЛЕДСТВИЯ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Цель урок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ознакомиться    с поражающими факторами землетрясений и их последствиям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Скругленный прямоугольник 3"/>
          <p:cNvSpPr/>
          <p:nvPr/>
        </p:nvSpPr>
        <p:spPr>
          <a:xfrm>
            <a:off x="539640" y="333360"/>
            <a:ext cx="7993080" cy="6476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Последствия землетрясе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4"/>
          <p:cNvSpPr/>
          <p:nvPr/>
        </p:nvSpPr>
        <p:spPr>
          <a:xfrm>
            <a:off x="539640" y="1197000"/>
            <a:ext cx="5904000" cy="5032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Опасные геологические яв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5"/>
          <p:cNvSpPr/>
          <p:nvPr/>
        </p:nvSpPr>
        <p:spPr>
          <a:xfrm>
            <a:off x="611280" y="3860640"/>
            <a:ext cx="5905440" cy="5050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Цунами, навод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Рисунок 10" descr="0_21c10_28acc12e_XL.jpg"/>
          <p:cNvPicPr/>
          <p:nvPr/>
        </p:nvPicPr>
        <p:blipFill>
          <a:blip r:embed="rId2"/>
          <a:stretch/>
        </p:blipFill>
        <p:spPr>
          <a:xfrm>
            <a:off x="603360" y="1841400"/>
            <a:ext cx="2388960" cy="188280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11" descr="avalancha.jpg"/>
          <p:cNvPicPr/>
          <p:nvPr/>
        </p:nvPicPr>
        <p:blipFill>
          <a:blip r:embed="rId3"/>
          <a:stretch/>
        </p:blipFill>
        <p:spPr>
          <a:xfrm>
            <a:off x="6724800" y="1335240"/>
            <a:ext cx="2041200" cy="260352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12" descr="0582af0cc39f.jpg"/>
          <p:cNvPicPr/>
          <p:nvPr/>
        </p:nvPicPr>
        <p:blipFill>
          <a:blip r:embed="rId4"/>
          <a:stretch/>
        </p:blipFill>
        <p:spPr>
          <a:xfrm>
            <a:off x="3560760" y="1908000"/>
            <a:ext cx="2455920" cy="174312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13" descr="1303715856_rrssrssrs-srsrrisrsrjos_-rrrrr-rrrssrr-ssrrrrjo.jpg"/>
          <p:cNvPicPr/>
          <p:nvPr/>
        </p:nvPicPr>
        <p:blipFill>
          <a:blip r:embed="rId5"/>
          <a:stretch/>
        </p:blipFill>
        <p:spPr>
          <a:xfrm>
            <a:off x="1322280" y="4645080"/>
            <a:ext cx="2481480" cy="190800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14" descr="thailand-flood-2010-1.jpg"/>
          <p:cNvPicPr/>
          <p:nvPr/>
        </p:nvPicPr>
        <p:blipFill>
          <a:blip r:embed="rId6"/>
          <a:stretch/>
        </p:blipFill>
        <p:spPr>
          <a:xfrm>
            <a:off x="4419720" y="4645080"/>
            <a:ext cx="2560680" cy="18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3000"/>
                            </p:stCondLst>
                            <p:childTnLst>
                              <p:par>
                                <p:cTn id="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0"/>
                            </p:stCondLst>
                            <p:childTnLst>
                              <p:par>
                                <p:cTn id="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7000"/>
                            </p:stCondLst>
                            <p:childTnLst>
                              <p:par>
                                <p:cTn id="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9000"/>
                            </p:stCondLst>
                            <p:childTnLst>
                              <p:par>
                                <p:cTn id="2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1000"/>
                            </p:stCondLst>
                            <p:childTnLst>
                              <p:par>
                                <p:cTn id="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Скругленный прямоугольник 3"/>
          <p:cNvSpPr/>
          <p:nvPr/>
        </p:nvSpPr>
        <p:spPr>
          <a:xfrm>
            <a:off x="539640" y="333360"/>
            <a:ext cx="7993080" cy="6476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Последствия землетрясе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4"/>
          <p:cNvSpPr/>
          <p:nvPr/>
        </p:nvSpPr>
        <p:spPr>
          <a:xfrm>
            <a:off x="539640" y="1413000"/>
            <a:ext cx="2952720" cy="5032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Пожа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5"/>
          <p:cNvSpPr/>
          <p:nvPr/>
        </p:nvSpPr>
        <p:spPr>
          <a:xfrm>
            <a:off x="468360" y="3645000"/>
            <a:ext cx="6767640" cy="504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Повреждение и разрушение зд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Рисунок 6" descr="00.jpg"/>
          <p:cNvPicPr/>
          <p:nvPr/>
        </p:nvPicPr>
        <p:blipFill>
          <a:blip r:embed="rId2"/>
          <a:stretch/>
        </p:blipFill>
        <p:spPr>
          <a:xfrm>
            <a:off x="3992400" y="1262160"/>
            <a:ext cx="3378240" cy="221292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7" descr="haiti.jpg"/>
          <p:cNvPicPr/>
          <p:nvPr/>
        </p:nvPicPr>
        <p:blipFill>
          <a:blip r:embed="rId3"/>
          <a:stretch/>
        </p:blipFill>
        <p:spPr>
          <a:xfrm>
            <a:off x="4853160" y="4432320"/>
            <a:ext cx="3078000" cy="198756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8" descr="untitled.png"/>
          <p:cNvPicPr/>
          <p:nvPr/>
        </p:nvPicPr>
        <p:blipFill>
          <a:blip r:embed="rId4"/>
          <a:stretch/>
        </p:blipFill>
        <p:spPr>
          <a:xfrm>
            <a:off x="963720" y="4432320"/>
            <a:ext cx="3041640" cy="19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3000"/>
                            </p:stCondLst>
                            <p:childTnLst>
                              <p:par>
                                <p:cTn id="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0"/>
                            </p:stCondLst>
                            <p:childTnLst>
                              <p:par>
                                <p:cTn id="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7000"/>
                            </p:stCondLst>
                            <p:childTnLst>
                              <p:par>
                                <p:cTn id="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Скругленный прямоугольник 3"/>
          <p:cNvSpPr/>
          <p:nvPr/>
        </p:nvSpPr>
        <p:spPr>
          <a:xfrm>
            <a:off x="539640" y="333360"/>
            <a:ext cx="7993080" cy="6476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Последствия землетрясе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4"/>
          <p:cNvSpPr/>
          <p:nvPr/>
        </p:nvSpPr>
        <p:spPr>
          <a:xfrm>
            <a:off x="611280" y="1413000"/>
            <a:ext cx="5905440" cy="5032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авмирование и гибель люд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5"/>
          <p:cNvSpPr/>
          <p:nvPr/>
        </p:nvSpPr>
        <p:spPr>
          <a:xfrm>
            <a:off x="1116000" y="5084640"/>
            <a:ext cx="3960720" cy="5050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Па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Рисунок 6" descr="the-big-picture-109-1.jpg"/>
          <p:cNvPicPr/>
          <p:nvPr/>
        </p:nvPicPr>
        <p:blipFill>
          <a:blip r:embed="rId2"/>
          <a:stretch/>
        </p:blipFill>
        <p:spPr>
          <a:xfrm>
            <a:off x="5357880" y="4071960"/>
            <a:ext cx="3060720" cy="245736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7" descr="esh_22867.jpg"/>
          <p:cNvPicPr/>
          <p:nvPr/>
        </p:nvPicPr>
        <p:blipFill>
          <a:blip r:embed="rId3"/>
          <a:stretch/>
        </p:blipFill>
        <p:spPr>
          <a:xfrm>
            <a:off x="822240" y="2127240"/>
            <a:ext cx="3481560" cy="23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3000"/>
                            </p:stCondLst>
                            <p:childTnLst>
                              <p:par>
                                <p:cTn id="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0"/>
                            </p:stCondLst>
                            <p:childTnLst>
                              <p:par>
                                <p:cTn id="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Скругленный прямоугольник 1"/>
          <p:cNvSpPr/>
          <p:nvPr/>
        </p:nvSpPr>
        <p:spPr>
          <a:xfrm>
            <a:off x="539640" y="333360"/>
            <a:ext cx="7993080" cy="6476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Последствия землетрясе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"/>
          <p:cNvSpPr/>
          <p:nvPr/>
        </p:nvSpPr>
        <p:spPr>
          <a:xfrm>
            <a:off x="611280" y="1413000"/>
            <a:ext cx="5905440" cy="5032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Аварии на промышленных предприятия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"/>
          <p:cNvSpPr/>
          <p:nvPr/>
        </p:nvSpPr>
        <p:spPr>
          <a:xfrm>
            <a:off x="755640" y="5300640"/>
            <a:ext cx="4321080" cy="5032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Транспортные ава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4"/>
          <p:cNvSpPr/>
          <p:nvPr/>
        </p:nvSpPr>
        <p:spPr>
          <a:xfrm>
            <a:off x="3780000" y="3068640"/>
            <a:ext cx="4608360" cy="5032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Выбросы опасных вещест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Рисунок 6" descr="3903286-japan-quakeleakage.jpg"/>
          <p:cNvPicPr/>
          <p:nvPr/>
        </p:nvPicPr>
        <p:blipFill>
          <a:blip r:embed="rId2"/>
          <a:stretch/>
        </p:blipFill>
        <p:spPr>
          <a:xfrm>
            <a:off x="603360" y="2414520"/>
            <a:ext cx="3004920" cy="2389320"/>
          </a:xfrm>
          <a:prstGeom prst="rect">
            <a:avLst/>
          </a:prstGeom>
          <a:ln w="0">
            <a:noFill/>
          </a:ln>
        </p:spPr>
      </p:pic>
      <p:pic>
        <p:nvPicPr>
          <p:cNvPr id="112" name="Рисунок 7" descr="137_1206-1.jpg"/>
          <p:cNvPicPr/>
          <p:nvPr/>
        </p:nvPicPr>
        <p:blipFill>
          <a:blip r:embed="rId3"/>
          <a:stretch/>
        </p:blipFill>
        <p:spPr>
          <a:xfrm>
            <a:off x="5505480" y="4211640"/>
            <a:ext cx="3114720" cy="22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4000"/>
                            </p:stCondLst>
                            <p:childTnLst>
                              <p:par>
                                <p:cTn id="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0"/>
                            </p:stCondLst>
                            <p:childTnLst>
                              <p:par>
                                <p:cTn id="10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ичные поражающие факторы землетряс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торичные поражающие факторы землетряс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Первичные поражающие фактор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резкие  толчк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колебания земной  поверхн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растяжение и проседание грун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широкие трещины  в  грунте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обвалы,  камнепады,  большие  оползн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снежные лавины, грязевые поток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цунами и сел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Вторичные поражающие фактор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повреждения  и  разрушения  здан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 пожары,  взрывы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выбросы  вредных  веществ  на  разрушенных  объектах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транспортные  аварии,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выход  из  строя  систем  жизнеобеспечения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в  результате  прорыва  гидротехнических  и водопроводных сооружений возможны наводнения, в том числе катастрофические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Задание: соединить стрелками взаимосвязанные явл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99680" y="1947600"/>
            <a:ext cx="1530360" cy="58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Подземные толч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3132000" y="1989000"/>
            <a:ext cx="1419480" cy="447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ожд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148360" y="1989000"/>
            <a:ext cx="1419120" cy="447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Метеори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236000" y="1989000"/>
            <a:ext cx="1419120" cy="447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улк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708360" y="3141720"/>
            <a:ext cx="2808360" cy="654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землетряс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4508640"/>
            <a:ext cx="141912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Штор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43280" y="4508640"/>
            <a:ext cx="1419120" cy="57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Деятельность челове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19640" y="4437000"/>
            <a:ext cx="141912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бва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380360" y="4508640"/>
            <a:ext cx="141912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ильный вет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362800" cy="679320"/>
          </a:xfrm>
          <a:prstGeom prst="rect">
            <a:avLst/>
          </a:prstGeom>
          <a:solidFill>
            <a:srgbClr val="000000"/>
          </a:solidFill>
          <a:ln w="9360">
            <a:solidFill>
              <a:srgbClr val="1f497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Бывают ли землетрясения на Луне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4" descr="j0182769"/>
          <p:cNvPicPr/>
          <p:nvPr/>
        </p:nvPicPr>
        <p:blipFill>
          <a:blip r:embed="rId2"/>
          <a:stretch/>
        </p:blipFill>
        <p:spPr>
          <a:xfrm>
            <a:off x="324000" y="3789360"/>
            <a:ext cx="1984320" cy="25002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j0219080"/>
          <p:cNvPicPr/>
          <p:nvPr/>
        </p:nvPicPr>
        <p:blipFill>
          <a:blip r:embed="rId3"/>
          <a:stretch/>
        </p:blipFill>
        <p:spPr>
          <a:xfrm>
            <a:off x="324000" y="1125360"/>
            <a:ext cx="2131920" cy="21607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6" descr="j0303441"/>
          <p:cNvPicPr/>
          <p:nvPr/>
        </p:nvPicPr>
        <p:blipFill>
          <a:blip r:embed="rId4"/>
          <a:stretch/>
        </p:blipFill>
        <p:spPr>
          <a:xfrm>
            <a:off x="7407360" y="4653000"/>
            <a:ext cx="1736640" cy="155088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7"/>
          <p:cNvSpPr/>
          <p:nvPr/>
        </p:nvSpPr>
        <p:spPr>
          <a:xfrm>
            <a:off x="2771640" y="1197000"/>
            <a:ext cx="3529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вый лунный сейсмограф был установлен американцами в 1969 г. Сейчас имеются свидетельства десятков лунотрясений, исходящих из ее недр, не говоря о десятков сотрясений от метеоритных ударов и ударов рак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8"/>
          <p:cNvSpPr/>
          <p:nvPr/>
        </p:nvSpPr>
        <p:spPr>
          <a:xfrm>
            <a:off x="2627280" y="4724280"/>
            <a:ext cx="4249800" cy="11912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Еще больше загадок таят в себе Марс и Венера. На этих планетах, как оказалось, тоже происходят сотряс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9" descr="j0219072"/>
          <p:cNvPicPr/>
          <p:nvPr/>
        </p:nvPicPr>
        <p:blipFill>
          <a:blip r:embed="rId5"/>
          <a:stretch/>
        </p:blipFill>
        <p:spPr>
          <a:xfrm>
            <a:off x="7164360" y="2781360"/>
            <a:ext cx="1173240" cy="11890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0" descr="j0219073"/>
          <p:cNvPicPr/>
          <p:nvPr/>
        </p:nvPicPr>
        <p:blipFill>
          <a:blip r:embed="rId6"/>
          <a:stretch/>
        </p:blipFill>
        <p:spPr>
          <a:xfrm>
            <a:off x="7097760" y="1268280"/>
            <a:ext cx="1174680" cy="11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8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7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Box 3"/>
          <p:cNvSpPr/>
          <p:nvPr/>
        </p:nvSpPr>
        <p:spPr>
          <a:xfrm>
            <a:off x="395280" y="189000"/>
            <a:ext cx="8353440" cy="59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еличину и мощность (энергию, выделившуюся при землетрясении) характеризует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Calibri"/>
              </a:rPr>
              <a:t>магнитуда землетрясени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торую определяют по показаниям специальных приборов и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шкале Рихтер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Шкала имеет значения от 1 до 9 балл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Calibri"/>
              </a:rPr>
              <a:t>Интенсивность землетрясени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т.е. его воздействие на окружающую среду (уровень разрушений), определяют по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шкале Меркал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Шкала Меркали имеет градации от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до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XII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алл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Рисунок 4" descr="326009008.jpg"/>
          <p:cNvPicPr/>
          <p:nvPr/>
        </p:nvPicPr>
        <p:blipFill>
          <a:blip r:embed="rId2"/>
          <a:stretch/>
        </p:blipFill>
        <p:spPr>
          <a:xfrm>
            <a:off x="179280" y="836640"/>
            <a:ext cx="4572000" cy="518472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5" descr="326009008.jpg"/>
          <p:cNvPicPr/>
          <p:nvPr/>
        </p:nvPicPr>
        <p:blipFill>
          <a:blip r:embed="rId3"/>
          <a:stretch/>
        </p:blipFill>
        <p:spPr>
          <a:xfrm>
            <a:off x="4932360" y="189000"/>
            <a:ext cx="3889440" cy="64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Меры для уменьшения потерь от землетрясен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95280" y="1557000"/>
            <a:ext cx="8353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Если вы проживаете в сейсмически активном районе, то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заблаговременно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Ознакомьтесь с планом эвакуации из здания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Разместите мебель так, чтобы она не могла упасть на спальные места, загородить двер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Шкафы, полки прочно прикрепите к стенам, к полу, надежно закрепить люстры и светильники;</a:t>
            </a:r>
            <a:br>
              <a:rPr sz="800"/>
            </a:b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Меры для уменьшения потерь от землетрясен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одготовьте самые необходимые вещи на случай эвакуации и храните их в месте, известном всем членам семьи (документы,  радиоприемник на батарейках, запас консервов и питьевой воды, аптечка, электрический фонарь, ведро с песком, огнетушитель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Не загромождайте вещами вход в квартиру, коридоры и лестничные площадк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Меры для уменьшения потерь от землетрясен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Определите наиболее безопасные места (в квартире, в школе),  в которых можно переждать толчки: проемы капитальных внутренних стен, углы, образованные внутренними капитальными стенами, ванные комнаты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Хранить емкости с опасными веществами так, чтобы они не могли упасть и разбиться при колебании зда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ДОМАШНЕЕ ЗАДА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читать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&amp; 2.2. – 2.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просите родителей научить вас отключать электричество, газ, воду. Нарисуйте схему вашей квартиры и отметьте на ней места отключения электричества, газа и вод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Рисунок 3" descr="Clipart-Cartoon-Design-05.gif"/>
          <p:cNvPicPr/>
          <p:nvPr/>
        </p:nvPicPr>
        <p:blipFill>
          <a:blip r:embed="rId2"/>
          <a:stretch/>
        </p:blipFill>
        <p:spPr>
          <a:xfrm>
            <a:off x="6284880" y="4376880"/>
            <a:ext cx="2182680" cy="20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Закончи предложени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9640" y="1341000"/>
            <a:ext cx="806472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Calibri"/>
              </a:rPr>
              <a:t>- Сегодня я узнал…</a:t>
            </a:r>
            <a:r>
              <a:rPr b="1" lang="en-US" sz="2800" spc="-1" strike="noStrike">
                <a:solidFill>
                  <a:srgbClr val="0033cc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33cc"/>
                </a:solidFill>
                <a:latin typeface="Calibri"/>
              </a:rPr>
              <a:t>        - Урок дал мне для              </a:t>
            </a:r>
            <a:r>
              <a:rPr b="1" lang="en-US" sz="2800" spc="-1" strike="noStrike">
                <a:solidFill>
                  <a:srgbClr val="0033cc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33cc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33cc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33cc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33cc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33cc"/>
                </a:solidFill>
                <a:latin typeface="Calibri"/>
              </a:rPr>
              <a:t>жизни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Calibri"/>
              </a:rPr>
              <a:t>- Было интересно…</a:t>
            </a:r>
            <a:r>
              <a:rPr b="1" lang="en-US" sz="2800" spc="-1" strike="noStrike">
                <a:solidFill>
                  <a:srgbClr val="0033cc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33cc"/>
                </a:solidFill>
                <a:latin typeface="Calibri"/>
              </a:rPr>
              <a:t>        - Я научился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Calibri"/>
              </a:rPr>
              <a:t>- Было трудно…</a:t>
            </a:r>
            <a:r>
              <a:rPr b="1" lang="en-US" sz="2800" spc="-1" strike="noStrike">
                <a:solidFill>
                  <a:srgbClr val="0033cc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33cc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33cc"/>
                </a:solidFill>
                <a:latin typeface="Calibri"/>
              </a:rPr>
              <a:t>        - У меня получилось 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Calibri"/>
              </a:rPr>
              <a:t>- Я выполнял задания…        - Я смог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Calibri"/>
              </a:rPr>
              <a:t>- Я понял, что…</a:t>
            </a:r>
            <a:r>
              <a:rPr b="1" lang="en-US" sz="2800" spc="-1" strike="noStrike">
                <a:solidFill>
                  <a:srgbClr val="0033cc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33cc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33cc"/>
                </a:solidFill>
                <a:latin typeface="Calibri"/>
              </a:rPr>
              <a:t>        - Я попробую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Calibri"/>
              </a:rPr>
              <a:t>- Теперь я могу…</a:t>
            </a:r>
            <a:r>
              <a:rPr b="1" lang="en-US" sz="2800" spc="-1" strike="noStrike">
                <a:solidFill>
                  <a:srgbClr val="0033cc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33cc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33cc"/>
                </a:solidFill>
                <a:latin typeface="Calibri"/>
              </a:rPr>
              <a:t>        - Меня удивило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Calibri"/>
              </a:rPr>
              <a:t>- Я почувствовал, что…</a:t>
            </a:r>
            <a:r>
              <a:rPr b="1" lang="en-US" sz="2800" spc="-1" strike="noStrike">
                <a:solidFill>
                  <a:srgbClr val="0033cc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33cc"/>
                </a:solidFill>
                <a:latin typeface="Calibri"/>
              </a:rPr>
              <a:t>        - Мне захотелось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Источник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980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сновы безопасности жизнедеятельности. 7 кл.: Учебник для общеобразовательных учреждения/ С.Н. Вангородский, В.Н.Латчук, В.В.Марков, М.И.Кузнецов. – М.: Дрофа, 200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ivntech.ru/7382-yaponiya-14-iyulya-v-yaponii-proizoshlo-ocherednoe-zemletryasenie.html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рта Японии с указанием эпицентра землетряс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myhdplayer.ru/kak-vybrat-stacionarnyj-mediapleer.html/vopro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нак вопрос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ria.ru/infografika/20111227/528012457.html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шкала измерений землетряс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http://fotki.yandex.ru/users/slavafoto/view/138256/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камнепа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http://stroitel2011.ru/?q=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Снежная+лавина&amp;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n=5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снежная лави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http://www.yaplakal.com/forum3/st/25/topic337321.html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трещины и провалы земл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http://news.lala24.net/tag/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японии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/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page/2/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цунам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http://www.i-g-t.org/2011/10/26/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таиланд-уходит-под-воду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наводнени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http://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altaisat.com/forums/index.php?topic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=1603.400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пожар после землетрясения в Япон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Источник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dozor.kharkov.ua/proisshestviya/katastrofy/1079464.html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повреждение здан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ufo-nlo.ucoz.ru/index/zemletrjasenie_na_gaiti_2010/0-5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разрушенный до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www.inosmi.ru/bbc_co_uk_russian/20111024/176513979.html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спасение из под завал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www.singlenews.ru/theme/incident/971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мужчина с девочкой на рука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www.edu54.ru/node/31146?size=preview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нига на ножка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www.spas-extreme.ru/images/multimedia/4z.jpg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карта сейсмоопасных районов Росс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http://yaushev.com/archives/2878 дозиметрический контроль детей (последствия землетрясения и цунами) фотографии из Япон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http://www.epochtimes.ru/content/view/48746/4/ Землетрясение послужило причиной ДТП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Задание: соединить стрелками взаимосвязанные явл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99680" y="1947600"/>
            <a:ext cx="1530360" cy="58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Подземные толч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/>
          <p:nvPr/>
        </p:nvSpPr>
        <p:spPr>
          <a:xfrm>
            <a:off x="3132000" y="1989000"/>
            <a:ext cx="1419480" cy="447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ожд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148360" y="1989000"/>
            <a:ext cx="1419120" cy="447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Метеори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236000" y="1989000"/>
            <a:ext cx="1419120" cy="447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улк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43280" y="3141720"/>
            <a:ext cx="2808360" cy="654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землетряс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4508640"/>
            <a:ext cx="141912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Штор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843280" y="4508640"/>
            <a:ext cx="1419120" cy="57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Деятельность челове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219640" y="4437000"/>
            <a:ext cx="141912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бва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380360" y="4508640"/>
            <a:ext cx="141912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ильный вет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763640" y="2492280"/>
            <a:ext cx="1152720" cy="86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292720" y="2349360"/>
            <a:ext cx="719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5435640" y="2349360"/>
            <a:ext cx="2232000" cy="115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3564000" y="3644640"/>
            <a:ext cx="28728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 flipV="1">
            <a:off x="5003280" y="3644640"/>
            <a:ext cx="86364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0" y="260280"/>
            <a:ext cx="9144000" cy="37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487440" indent="-487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К какой группе из опасных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87440" indent="-487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риродных явлений относятся землетрясения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87440" indent="-487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Подземные толчки и колебания поверхности Земли –это 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87440" indent="-487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Назвите основные виды землетрясений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87440" indent="-487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Каковы причины землетрясений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87440" indent="-487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.Как называется прибор для  обнаружения и регистрации землетрясения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87440" indent="-487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6.  Где появился первый сейсмограф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87440" indent="-487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7.  Назвать основные показател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измерения силы землетрясения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8.  Очаг землетрясения или точка под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Землей -это…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9.  Прямо над гипоцентром на  поверхности земли находится…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0. Территория, известных и ожидаемых  очагов землетрясений –это…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1. Назвать «загадку природы», где никогда не было землетрясений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2. Может ли изменение в поведении  животных являться прогнозом  землетрясений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ТВЕТ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.Геофизическ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. Землетряс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3. Тектонические, внутриплитовые, вулканические, обвальные, деятельность человек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4. деятельность человека, пустоты, вулканы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5. Сейсмогра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6. Кита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7. Магнитуда, единицы измерения шкал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ихтера и шкала Меркалл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8.Гипоцент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9. Эпицент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0.Сейсоопасная зо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1. Антарктид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2. Да, потому что они очень чувствительны к этому явлению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0-6- «3», 7-9- «4», 10-12- «5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Рисунок 3" descr="4z2.jpg"/>
          <p:cNvPicPr/>
          <p:nvPr/>
        </p:nvPicPr>
        <p:blipFill>
          <a:blip r:embed="rId2"/>
          <a:stretch/>
        </p:blipFill>
        <p:spPr>
          <a:xfrm>
            <a:off x="250920" y="730080"/>
            <a:ext cx="8569080" cy="61214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539640" y="155160"/>
            <a:ext cx="80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 каких  районах  мира  наиболее  вероятны  землетрясения? Посмотрите на карту и назовите и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Карта литосферных пли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Рисунок 4" descr="plates-rus.gif"/>
          <p:cNvPicPr/>
          <p:nvPr/>
        </p:nvPicPr>
        <p:blipFill>
          <a:blip r:embed="rId2"/>
          <a:stretch/>
        </p:blipFill>
        <p:spPr>
          <a:xfrm>
            <a:off x="208080" y="933480"/>
            <a:ext cx="8802720" cy="57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395280" y="260280"/>
            <a:ext cx="835344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Тихоокеанский пояс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охватывает кольцом акваторию океана, по периферии которой расположены сейсмически активные области Аляски, Алеутских островов, Камчатки, Курильских островов, Японии, Филиппин, Новой Зеландии, Южной, Центральной и Северной Америки и Гавайских остров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Средиземноморско-Трансазиатский пояс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тянется от островов Зеленого мыса в Атлантике, через районы Северной Африки, Португалии, Италии, Греции, Турции, Ирана, юга СНГ, Гималаев, Центрального Китая, Индонез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7T04:58:07Z</dcterms:created>
  <dc:creator>DmitriyD</dc:creator>
  <dc:description/>
  <dc:language>en-US</dc:language>
  <cp:lastModifiedBy>Пользователь</cp:lastModifiedBy>
  <dcterms:modified xsi:type="dcterms:W3CDTF">2018-11-21T04:14:13Z</dcterms:modified>
  <cp:revision>46</cp:revision>
  <dc:subject/>
  <dc:title>Урок 2. ЗЕМЛЕТРЯСЕНИЕ 7 класс</dc:title>
</cp:coreProperties>
</file>