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14.png" ContentType="image/png"/>
  <Override PartName="/ppt/media/image1.jpeg" ContentType="image/jpeg"/>
  <Override PartName="/ppt/media/image23.gif" ContentType="image/gif"/>
  <Override PartName="/ppt/media/image3.png" ContentType="image/png"/>
  <Override PartName="/ppt/media/image22.gif" ContentType="image/gif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629-F0AE-40E0-B5B4-97193C99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796-1EE8-41ED-B063-265E819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240-5BD0-4D62-AA28-34B5E3A0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D6F-59F2-4E03-A7D5-0239D04C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64F-B314-4F64-8222-C3ADAC01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F8E-8804-46C3-9F8A-BE1FA3B2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4DD-6C68-4C54-80F6-774F214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881-ED71-4110-BB2B-258E8032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629-6D69-42C9-A85B-5D2BA77D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D28-991F-494A-A69B-9944DD2E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F5A-0E1A-4AA7-9DCC-67CA7DC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AC1-46E8-4BDA-A223-B9534DAB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B199-66E3-4FC8-9817-40A0C4363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vntech.ru/7382-yaponiya-14-iyulya-v-yaponii-proizoshlo-ocherednoe-zemletryasenie.html" TargetMode="External"/><Relationship Id="rId3" Type="http://schemas.openxmlformats.org/officeDocument/2006/relationships/hyperlink" Target="http://myhdplayer.ru/kak-vybrat-stacionarnyj-mediapleer.html/vopros" TargetMode="External"/><Relationship Id="rId4" Type="http://schemas.openxmlformats.org/officeDocument/2006/relationships/hyperlink" Target="http://ria.ru/infografika/20111227/528012457.html" TargetMode="External"/><Relationship Id="rId5" Type="http://schemas.openxmlformats.org/officeDocument/2006/relationships/hyperlink" Target="http://fotki.yandex.ru/users/slavafoto/view/138256/" TargetMode="External"/><Relationship Id="rId6" Type="http://schemas.openxmlformats.org/officeDocument/2006/relationships/hyperlink" Target="http://stroitel2011.ru/?q=&#1057;&#1085;&#1077;&#1078;&#1085;&#1072;&#1103;+&#1083;&#1072;&#1074;&#1080;&#1085;&#1072;&amp;n=5" TargetMode="External"/><Relationship Id="rId7" Type="http://schemas.openxmlformats.org/officeDocument/2006/relationships/hyperlink" Target="http://stroitel2011.ru/?q=&#1057;&#1085;&#1077;&#1078;&#1085;&#1072;&#1103;+&#1083;&#1072;&#1074;&#1080;&#1085;&#1072;&amp;n=5" TargetMode="External"/><Relationship Id="rId8" Type="http://schemas.openxmlformats.org/officeDocument/2006/relationships/hyperlink" Target="http://stroitel2011.ru/?q=&#1057;&#1085;&#1077;&#1078;&#1085;&#1072;&#1103;+&#1083;&#1072;&#1074;&#1080;&#1085;&#1072;&amp;n=5" TargetMode="External"/><Relationship Id="rId9" Type="http://schemas.openxmlformats.org/officeDocument/2006/relationships/hyperlink" Target="http://www.yaplakal.com/forum3/st/25/topic337321.html" TargetMode="External"/><Relationship Id="rId10" Type="http://schemas.openxmlformats.org/officeDocument/2006/relationships/hyperlink" Target="http://news.lala24.net/tag/&#1103;&#1087;&#1086;&#1085;&#1080;&#1080;/page/2/" TargetMode="External"/><Relationship Id="rId11" Type="http://schemas.openxmlformats.org/officeDocument/2006/relationships/hyperlink" Target="http://news.lala24.net/tag/&#1103;&#1087;&#1086;&#1085;&#1080;&#1080;/page/2/" TargetMode="External"/><Relationship Id="rId12" Type="http://schemas.openxmlformats.org/officeDocument/2006/relationships/hyperlink" Target="http://news.lala24.net/tag/&#1103;&#1087;&#1086;&#1085;&#1080;&#1080;/page/2/" TargetMode="External"/><Relationship Id="rId13" Type="http://schemas.openxmlformats.org/officeDocument/2006/relationships/hyperlink" Target="http://news.lala24.net/tag/&#1103;&#1087;&#1086;&#1085;&#1080;&#1080;/page/2/" TargetMode="External"/><Relationship Id="rId14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5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6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7" Type="http://schemas.openxmlformats.org/officeDocument/2006/relationships/hyperlink" Target="http://altaisat.com/forums/index.php?topic=1603.400" TargetMode="External"/><Relationship Id="rId18" Type="http://schemas.openxmlformats.org/officeDocument/2006/relationships/hyperlink" Target="http://altaisat.com/forums/index.php?topic=1603.400" TargetMode="External"/><Relationship Id="rId19" Type="http://schemas.openxmlformats.org/officeDocument/2006/relationships/hyperlink" Target="http://altaisat.com/forums/index.php?topic=1603.400" TargetMode="External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zor.kharkov.ua/proisshestviya/katastrofy/1079464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рок 2.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ЗЕМЛЕТРЯСЕНИЕ</a:t>
            </a:r>
            <a:br>
              <a:rPr sz="66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300280"/>
            <a:ext cx="849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олуб Марина Геннадьевна учитель ОБЖ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 категория МОКУ Таскинская ОО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310637561_67921.jpg"/>
          <p:cNvPicPr/>
          <p:nvPr/>
        </p:nvPicPr>
        <p:blipFill>
          <a:blip r:embed="rId2"/>
          <a:stretch/>
        </p:blipFill>
        <p:spPr>
          <a:xfrm>
            <a:off x="2408400" y="1908000"/>
            <a:ext cx="42606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4000" y="333360"/>
            <a:ext cx="4896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ипы разл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Razlom_Types.jpg"/>
          <p:cNvPicPr/>
          <p:nvPr/>
        </p:nvPicPr>
        <p:blipFill>
          <a:blip r:embed="rId2"/>
          <a:stretch/>
        </p:blipFill>
        <p:spPr>
          <a:xfrm>
            <a:off x="468360" y="134136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4" descr="Razlom_Types.jpg"/>
          <p:cNvPicPr/>
          <p:nvPr/>
        </p:nvPicPr>
        <p:blipFill>
          <a:blip r:embed="rId3"/>
          <a:stretch/>
        </p:blipFill>
        <p:spPr>
          <a:xfrm>
            <a:off x="5867280" y="134136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Рисунок 5" descr="Razlom_Types.jpg"/>
          <p:cNvPicPr/>
          <p:nvPr/>
        </p:nvPicPr>
        <p:blipFill>
          <a:blip r:embed="rId4"/>
          <a:stretch/>
        </p:blipFill>
        <p:spPr>
          <a:xfrm>
            <a:off x="3132000" y="414972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АЖАЮЩИЕ ФАКТО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ЕМЛЕТРЯСЕНИЙ И ИХ ПОСЛЕД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накомиться    с поражающими факторами землетрясений и их последств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539640" y="1197000"/>
            <a:ext cx="590400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асные геологические 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1280" y="3860640"/>
            <a:ext cx="5905440" cy="505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унами, навод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0" descr="0_21c10_28acc12e_XL.jpg"/>
          <p:cNvPicPr/>
          <p:nvPr/>
        </p:nvPicPr>
        <p:blipFill>
          <a:blip r:embed="rId2"/>
          <a:stretch/>
        </p:blipFill>
        <p:spPr>
          <a:xfrm>
            <a:off x="603360" y="1841400"/>
            <a:ext cx="2388960" cy="1882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avalancha.jpg"/>
          <p:cNvPicPr/>
          <p:nvPr/>
        </p:nvPicPr>
        <p:blipFill>
          <a:blip r:embed="rId3"/>
          <a:stretch/>
        </p:blipFill>
        <p:spPr>
          <a:xfrm>
            <a:off x="6724800" y="1335240"/>
            <a:ext cx="2041200" cy="2603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0582af0cc39f.jpg"/>
          <p:cNvPicPr/>
          <p:nvPr/>
        </p:nvPicPr>
        <p:blipFill>
          <a:blip r:embed="rId4"/>
          <a:stretch/>
        </p:blipFill>
        <p:spPr>
          <a:xfrm>
            <a:off x="3560760" y="1908000"/>
            <a:ext cx="245592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3" descr="1303715856_rrssrssrs-srsrrisrsrjos_-rrrrr-rrrssrr-ssrrrrjo.jpg"/>
          <p:cNvPicPr/>
          <p:nvPr/>
        </p:nvPicPr>
        <p:blipFill>
          <a:blip r:embed="rId5"/>
          <a:stretch/>
        </p:blipFill>
        <p:spPr>
          <a:xfrm>
            <a:off x="1322280" y="4645080"/>
            <a:ext cx="2481480" cy="190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thailand-flood-2010-1.jpg"/>
          <p:cNvPicPr/>
          <p:nvPr/>
        </p:nvPicPr>
        <p:blipFill>
          <a:blip r:embed="rId6"/>
          <a:stretch/>
        </p:blipFill>
        <p:spPr>
          <a:xfrm>
            <a:off x="4419720" y="4645080"/>
            <a:ext cx="25606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539640" y="1413000"/>
            <a:ext cx="295272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ж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468360" y="3645000"/>
            <a:ext cx="6767640" cy="504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вреждение и разрушение з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00.jpg"/>
          <p:cNvPicPr/>
          <p:nvPr/>
        </p:nvPicPr>
        <p:blipFill>
          <a:blip r:embed="rId2"/>
          <a:stretch/>
        </p:blipFill>
        <p:spPr>
          <a:xfrm>
            <a:off x="3992400" y="1262160"/>
            <a:ext cx="3378240" cy="2212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haiti.jpg"/>
          <p:cNvPicPr/>
          <p:nvPr/>
        </p:nvPicPr>
        <p:blipFill>
          <a:blip r:embed="rId3"/>
          <a:stretch/>
        </p:blipFill>
        <p:spPr>
          <a:xfrm>
            <a:off x="4853160" y="4432320"/>
            <a:ext cx="3078000" cy="19875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untitled.png"/>
          <p:cNvPicPr/>
          <p:nvPr/>
        </p:nvPicPr>
        <p:blipFill>
          <a:blip r:embed="rId4"/>
          <a:stretch/>
        </p:blipFill>
        <p:spPr>
          <a:xfrm>
            <a:off x="963720" y="4432320"/>
            <a:ext cx="30416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11280" y="1413000"/>
            <a:ext cx="590544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вмирование и гибель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1116000" y="5084640"/>
            <a:ext cx="3960720" cy="505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the-big-picture-109-1.jpg"/>
          <p:cNvPicPr/>
          <p:nvPr/>
        </p:nvPicPr>
        <p:blipFill>
          <a:blip r:embed="rId2"/>
          <a:stretch/>
        </p:blipFill>
        <p:spPr>
          <a:xfrm>
            <a:off x="5357880" y="4071960"/>
            <a:ext cx="306072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esh_22867.jpg"/>
          <p:cNvPicPr/>
          <p:nvPr/>
        </p:nvPicPr>
        <p:blipFill>
          <a:blip r:embed="rId3"/>
          <a:stretch/>
        </p:blipFill>
        <p:spPr>
          <a:xfrm>
            <a:off x="822240" y="2127240"/>
            <a:ext cx="34815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1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611280" y="1413000"/>
            <a:ext cx="590544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рии на промышленных предприят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755640" y="5300640"/>
            <a:ext cx="432108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анспортные ав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3780000" y="3068640"/>
            <a:ext cx="460836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бросы опас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6" descr="3903286-japan-quakeleakage.jpg"/>
          <p:cNvPicPr/>
          <p:nvPr/>
        </p:nvPicPr>
        <p:blipFill>
          <a:blip r:embed="rId2"/>
          <a:stretch/>
        </p:blipFill>
        <p:spPr>
          <a:xfrm>
            <a:off x="603360" y="2414520"/>
            <a:ext cx="3004920" cy="23893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137_1206-1.jpg"/>
          <p:cNvPicPr/>
          <p:nvPr/>
        </p:nvPicPr>
        <p:blipFill>
          <a:blip r:embed="rId3"/>
          <a:stretch/>
        </p:blipFill>
        <p:spPr>
          <a:xfrm>
            <a:off x="5505480" y="4211640"/>
            <a:ext cx="31147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е поражающие факторы землетря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поражающие факторы землетря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ичные поражающи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кие  толч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лебания земной  поверх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тяжение и проседание гру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ирокие трещины  в  грунт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валы,  камнепады,  большие  опол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нежные лавины, грязевые пото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унами и се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торичные поражающи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реждения  и  разрушения  зд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пожары,  взрыв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бросы  вредных  веществ  на  разрушенных  объекта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анспортные  аварии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ход  из  строя  систем  жизнеобеспечен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 результате  прорыва  гидротехнических  и водопроводных сооружений возможны наводнения, в том числе катастрофическ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е: соединить стрелками взаимосвязанные я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947600"/>
            <a:ext cx="153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дземные тол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989000"/>
            <a:ext cx="1419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тео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600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3141720"/>
            <a:ext cx="280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508640"/>
            <a:ext cx="14191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4508640"/>
            <a:ext cx="14191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43700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в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450864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льны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679320"/>
          </a:xfrm>
          <a:prstGeom prst="rect">
            <a:avLst/>
          </a:prstGeom>
          <a:solidFill>
            <a:srgbClr val="000000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Бывают ли землетрясения на Лу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j0182769"/>
          <p:cNvPicPr/>
          <p:nvPr/>
        </p:nvPicPr>
        <p:blipFill>
          <a:blip r:embed="rId2"/>
          <a:stretch/>
        </p:blipFill>
        <p:spPr>
          <a:xfrm>
            <a:off x="324000" y="3789360"/>
            <a:ext cx="1984320" cy="25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j0219080"/>
          <p:cNvPicPr/>
          <p:nvPr/>
        </p:nvPicPr>
        <p:blipFill>
          <a:blip r:embed="rId3"/>
          <a:stretch/>
        </p:blipFill>
        <p:spPr>
          <a:xfrm>
            <a:off x="324000" y="112536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j0303441"/>
          <p:cNvPicPr/>
          <p:nvPr/>
        </p:nvPicPr>
        <p:blipFill>
          <a:blip r:embed="rId4"/>
          <a:stretch/>
        </p:blipFill>
        <p:spPr>
          <a:xfrm>
            <a:off x="7407360" y="4653000"/>
            <a:ext cx="173664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771640" y="119700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лунный сейсмограф был установлен американцами в 1969 г. Сейчас имеются свидетельства десятков лунотрясений, исходящих из ее недр, не говоря о десятков сотрясений от метеоритных ударов и ударов рак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627280" y="4724280"/>
            <a:ext cx="42498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ще больше загадок таят в себе Марс и Венера. На этих планетах, как оказалось, тоже происходят сотряс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j0219072"/>
          <p:cNvPicPr/>
          <p:nvPr/>
        </p:nvPicPr>
        <p:blipFill>
          <a:blip r:embed="rId5"/>
          <a:stretch/>
        </p:blipFill>
        <p:spPr>
          <a:xfrm>
            <a:off x="7164360" y="2781360"/>
            <a:ext cx="1173240" cy="11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j0219073"/>
          <p:cNvPicPr/>
          <p:nvPr/>
        </p:nvPicPr>
        <p:blipFill>
          <a:blip r:embed="rId6"/>
          <a:stretch/>
        </p:blipFill>
        <p:spPr>
          <a:xfrm>
            <a:off x="7097760" y="1268280"/>
            <a:ext cx="11746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395280" y="189000"/>
            <a:ext cx="8353440" cy="59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чину и мощность (энергию, выделившуюся при землетрясении) характеризуе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магнитуда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ую определяют по показаниям специальных приборов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але Рихт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кала имеет значения от 1 до 9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Интенсивность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.е. его воздействие на окружающую среду (уровень разрушений), определяют п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але Мерка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кала Меркали имеет градации 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4" descr="326009008.jpg"/>
          <p:cNvPicPr/>
          <p:nvPr/>
        </p:nvPicPr>
        <p:blipFill>
          <a:blip r:embed="rId2"/>
          <a:stretch/>
        </p:blipFill>
        <p:spPr>
          <a:xfrm>
            <a:off x="179280" y="836640"/>
            <a:ext cx="4572000" cy="5184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326009008.jpg"/>
          <p:cNvPicPr/>
          <p:nvPr/>
        </p:nvPicPr>
        <p:blipFill>
          <a:blip r:embed="rId3"/>
          <a:stretch/>
        </p:blipFill>
        <p:spPr>
          <a:xfrm>
            <a:off x="4932360" y="189000"/>
            <a:ext cx="388944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вы проживаете в сейсмически активном районе, то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заблаговременн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знакомьтесь с планом эвакуации из зд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местите мебель так, чтобы она не могла упасть на спальные места, загородить дв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кафы, полки прочно прикрепите к стенам, к полу, надежно закрепить люстры и светильники;</a:t>
            </a: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готовьте самые необходимые вещи на случай эвакуации и храните их в месте, известном всем членам семьи (документы,  радиоприемник на батарейках, запас консервов и питьевой воды, аптечка, электрический фонарь, ведро с песком, огнетушитель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 загромождайте вещами вход в квартиру, коридоры и лестничные площад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ределите наиболее безопасные места (в квартире, в школе),  в которых можно переждать толчки: проемы капитальных внутренних стен, углы, образованные внутренними капитальными стенами, ванные комна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анить емкости с опасными веществами так, чтобы они не могли упасть и разбиться при колебании з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2.2. – 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сите родителей научить вас отключать электричество, газ, воду. Нарисуйте схему вашей квартиры и отметьте на ней места отключения электричества, газа и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3" descr="Clipart-Cartoon-Design-05.gif"/>
          <p:cNvPicPr/>
          <p:nvPr/>
        </p:nvPicPr>
        <p:blipFill>
          <a:blip r:embed="rId2"/>
          <a:stretch/>
        </p:blipFill>
        <p:spPr>
          <a:xfrm>
            <a:off x="6284880" y="4376880"/>
            <a:ext cx="2182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кончи предло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Сегодня я узнал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Урок дал мне для             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жизн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Было интересн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Я научил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Было трудн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У меня получилос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выполнял задания…        - Я смог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понял, чт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Я попробую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Теперь я могу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Меня удиви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почувствовал, чт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Мне захотелос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ы безопасности жизнедеятельности. 7 кл.: Учебник для общеобразовательных учреждения/ С.Н. Вангородский, В.Н.Латчук, В.В.Марков, М.И.Кузнецов. – М.: Дрофа,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vntech.ru/7382-yaponiya-14-iyulya-v-yaponii-proizoshlo-ocherednoe-zemletryasenie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а Японии с указанием эпицентра землетряс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yhdplayer.ru/kak-vybrat-stacionarnyj-mediapleer.html/vopr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к вопр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ia.ru/infografika/20111227/528012457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шкала измерений землетряс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fotki.yandex.ru/users/slavafoto/view/138256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мнеп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troitel2011.ru/?q=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нежная+лавина&amp;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=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нежная ла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yaplakal.com/forum3/st/25/topic337321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рещины и провалы зем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news.lala24.net/tag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японии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page/2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цун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i-g-t.org/2011/10/26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таиланд-уходит-под-воду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вод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altaisat.com/forums/index.php?topi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=1603.40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жар после землетрясения в Япо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ozor.kharkov.ua/proisshestviya/katastrofy/1079464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вреждение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fo-nlo.ucoz.ru/index/zemletrjasenie_na_gaiti_2010/0-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рушенный 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nosmi.ru/bbc_co_uk_russian/20111024/176513979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пасение из под зав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inglenews.ru/theme/incident/97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ужчина с девочкой на ру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du54.ru/node/31146?size=preview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нига на нож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pas-extreme.ru/images/multimedia/4z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рта сейсмоопасных районов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yaushev.com/archives/2878 дозиметрический контроль детей (последствия землетрясения и цунами) фотографии из Япо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epochtimes.ru/content/view/48746/4/ Землетрясение послужило причиной ДТ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е: соединить стрелками взаимосвязанные я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9680" y="1947600"/>
            <a:ext cx="153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дземные тол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989000"/>
            <a:ext cx="1419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тео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3141720"/>
            <a:ext cx="280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4508640"/>
            <a:ext cx="14191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4508640"/>
            <a:ext cx="14191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443700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в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450864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льны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2492280"/>
            <a:ext cx="11527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92720" y="234936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35640" y="2349360"/>
            <a:ext cx="223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564000" y="364464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003280" y="364464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260280"/>
            <a:ext cx="91440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К какой группе из опас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родных явлений относятся землетряс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Подземные толчки и колебания поверхности Земли –это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Назвите основные виды землетряс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Каковы причины землетряс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Как называется прибор для  обнаружения и регистрации землетряс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 Где появился первый сейсмограф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Назвать основные показате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мерения силы землетряс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Очаг землетрясения или точка по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емлей -это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Прямо над гипоцентром на  поверхности земли находится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Территория, известных и ожидаемых  очагов землетрясений –это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Назвать «загадку природы», где никогда не было землетрясе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Может ли изменение в поведении  животных являться прогнозом  землетрясен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Геофиз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Землетряс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Тектонические, внутриплитовые, вулканические, обвальные, деятельность челове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деятельность человека, пустоты, вулка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Сейсмогра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ита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Магнитуда, единицы измерения шк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хтера и шкала Меркал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Гипо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Эпи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Сейсоопас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Антаркт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Да, потому что они очень чувствительны к этому явлени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-6- «3», 7-9- «4», 10-12- «5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4z2.jpg"/>
          <p:cNvPicPr/>
          <p:nvPr/>
        </p:nvPicPr>
        <p:blipFill>
          <a:blip r:embed="rId2"/>
          <a:stretch/>
        </p:blipFill>
        <p:spPr>
          <a:xfrm>
            <a:off x="250920" y="730080"/>
            <a:ext cx="8569080" cy="612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1551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 каких  районах  мира  наиболее  вероятны  землетрясения? Посмотрите на карту и назови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а литосферных пл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plates-rus.gif"/>
          <p:cNvPicPr/>
          <p:nvPr/>
        </p:nvPicPr>
        <p:blipFill>
          <a:blip r:embed="rId2"/>
          <a:stretch/>
        </p:blipFill>
        <p:spPr>
          <a:xfrm>
            <a:off x="208080" y="933480"/>
            <a:ext cx="88027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260280"/>
            <a:ext cx="835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Тихоокеанский поя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хватывает кольцом акваторию океана, по периферии которой расположены сейсмически активные области Аляски, Алеутских островов, Камчатки, Курильских островов, Японии, Филиппин, Новой Зеландии, Южной, Центральной и Северной Америки и Гавайских остров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Средиземноморско-Трансазиатский поя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янется от островов Зеленого мыса в Атлантике, через районы Северной Африки, Португалии, Италии, Греции, Турции, Ирана, юга СНГ, Гималаев, Центрального Китая, Индонез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4:58:07Z</dcterms:created>
  <dc:creator>DmitriyD</dc:creator>
  <dc:description/>
  <dc:language>en-US</dc:language>
  <cp:lastModifiedBy>Пользователь</cp:lastModifiedBy>
  <dcterms:modified xsi:type="dcterms:W3CDTF">2018-11-21T04:14:13Z</dcterms:modified>
  <cp:revision>46</cp:revision>
  <dc:subject/>
  <dc:title>Урок 2. ЗЕМЛЕТРЯСЕНИЕ 7 класс</dc:title>
</cp:coreProperties>
</file>